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9EB-2510-4876-9581-67B7AAB8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121-14F7-43D7-B47F-D6C14CDF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566-F62F-4082-BD36-2162C1DA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967-3B10-4F0F-9D54-B1716B6E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2AD-DC48-46C4-9704-964CA01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714-2518-411B-AFE5-5A413FB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53A-82B2-4C9F-B266-E64DB604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198-9595-4258-A05E-5AFF1F4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51E-DB95-421D-B211-43C657DA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4E8-D96F-4C4D-829C-1DFB3A1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0AD-C01B-435F-92FC-7F53D9F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AE1-3F3C-4F09-9AEB-4C53C9EC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6953-62FC-4B6A-BB5D-A5422C7083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rcRect l="0" t="0" r="5726" b="0"/>
          <a:stretch/>
        </p:blipFill>
        <p:spPr>
          <a:xfrm>
            <a:off x="1735200" y="765000"/>
            <a:ext cx="5673600" cy="379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3"/>
          <a:stretch/>
        </p:blipFill>
        <p:spPr>
          <a:xfrm>
            <a:off x="1908000" y="109440"/>
            <a:ext cx="5328000" cy="58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4"/>
          <a:stretch/>
        </p:blipFill>
        <p:spPr>
          <a:xfrm>
            <a:off x="8604360" y="6453360"/>
            <a:ext cx="438120" cy="32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5"/>
          <a:stretch/>
        </p:blipFill>
        <p:spPr>
          <a:xfrm>
            <a:off x="4051440" y="3745080"/>
            <a:ext cx="45529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101520" y="6453360"/>
            <a:ext cx="43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" descr=""/>
          <p:cNvPicPr/>
          <p:nvPr/>
        </p:nvPicPr>
        <p:blipFill>
          <a:blip r:embed="rId3"/>
          <a:srcRect l="0" t="0" r="31480" b="0"/>
          <a:stretch/>
        </p:blipFill>
        <p:spPr>
          <a:xfrm>
            <a:off x="0" y="0"/>
            <a:ext cx="41403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"/>
          <p:cNvPicPr/>
          <p:nvPr/>
        </p:nvPicPr>
        <p:blipFill>
          <a:blip r:embed="rId2"/>
          <a:stretch/>
        </p:blipFill>
        <p:spPr>
          <a:xfrm>
            <a:off x="101520" y="6453360"/>
            <a:ext cx="438120" cy="32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6188040" cy="366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4"/>
          <a:stretch/>
        </p:blipFill>
        <p:spPr>
          <a:xfrm>
            <a:off x="2774880" y="2776680"/>
            <a:ext cx="28418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26:22Z</dcterms:created>
  <dc:creator>User</dc:creator>
  <dc:description/>
  <dc:language>en-US</dc:language>
  <cp:lastModifiedBy>jackie hughes</cp:lastModifiedBy>
  <dcterms:modified xsi:type="dcterms:W3CDTF">2021-02-17T14:36:41Z</dcterms:modified>
  <cp:revision>456</cp:revision>
  <dc:subject/>
  <dc:title>PowerPoint Presentation</dc:title>
</cp:coreProperties>
</file>