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move the slide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D3C5-8F5A-4511-A537-331AAAC511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5E1F-7C30-4F18-9CEC-9240534178B4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AE97-6E55-498B-8ADB-B9EA607F16D2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8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4"/>
          <p:cNvSpPr/>
          <p:nvPr/>
        </p:nvSpPr>
        <p:spPr>
          <a:xfrm>
            <a:off x="755640" y="765000"/>
            <a:ext cx="763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ay each word. Think about the sound the ‘s’ is making in each one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5" name="1"/>
          <p:cNvSpPr/>
          <p:nvPr/>
        </p:nvSpPr>
        <p:spPr>
          <a:xfrm>
            <a:off x="755640" y="3384720"/>
            <a:ext cx="2441520" cy="590400"/>
          </a:xfrm>
          <a:prstGeom prst="roundRect">
            <a:avLst>
              <a:gd name="adj" fmla="val 16667"/>
            </a:avLst>
          </a:prstGeom>
          <a:solidFill>
            <a:srgbClr val="fdd283"/>
          </a:solidFill>
          <a:ln w="12600">
            <a:solidFill>
              <a:srgbClr val="fdd2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elevi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s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io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6" name="2"/>
          <p:cNvSpPr/>
          <p:nvPr/>
        </p:nvSpPr>
        <p:spPr>
          <a:xfrm>
            <a:off x="3351240" y="3384720"/>
            <a:ext cx="2441520" cy="590400"/>
          </a:xfrm>
          <a:prstGeom prst="roundRect">
            <a:avLst>
              <a:gd name="adj" fmla="val 16667"/>
            </a:avLst>
          </a:prstGeom>
          <a:solidFill>
            <a:srgbClr val="b9d375"/>
          </a:solidFill>
          <a:ln w="12600">
            <a:solidFill>
              <a:srgbClr val="b9d3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trea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s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ur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7" name="3"/>
          <p:cNvSpPr/>
          <p:nvPr/>
        </p:nvSpPr>
        <p:spPr>
          <a:xfrm>
            <a:off x="5946840" y="3384720"/>
            <a:ext cx="2441520" cy="590400"/>
          </a:xfrm>
          <a:prstGeom prst="roundRect">
            <a:avLst>
              <a:gd name="adj" fmla="val 16667"/>
            </a:avLst>
          </a:prstGeom>
          <a:solidFill>
            <a:srgbClr val="73c4f1"/>
          </a:solidFill>
          <a:ln w="12600">
            <a:solidFill>
              <a:srgbClr val="73c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divi</a:t>
            </a:r>
            <a:r>
              <a:rPr b="1" lang="en-GB" sz="2400" spc="-1" strike="noStrike">
                <a:solidFill>
                  <a:srgbClr val="1c1c1c"/>
                </a:solidFill>
                <a:latin typeface="Twinkl"/>
              </a:rPr>
              <a:t>s</a:t>
            </a: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io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901800" y="1558800"/>
            <a:ext cx="2155680" cy="1749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3741840" y="1514520"/>
            <a:ext cx="1660320" cy="1793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6308640" y="157464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rcRect l="0" t="0" r="26350" b="56988"/>
          <a:stretch/>
        </p:blipFill>
        <p:spPr>
          <a:xfrm>
            <a:off x="677880" y="4187880"/>
            <a:ext cx="25192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61"/>
          <p:cNvGrpSpPr/>
          <p:nvPr/>
        </p:nvGrpSpPr>
        <p:grpSpPr>
          <a:xfrm>
            <a:off x="3351240" y="4524480"/>
            <a:ext cx="5130720" cy="1001520"/>
            <a:chOff x="3351240" y="4524480"/>
            <a:chExt cx="5130720" cy="1001520"/>
          </a:xfrm>
        </p:grpSpPr>
        <p:sp>
          <p:nvSpPr>
            <p:cNvPr id="253" name="Rounded Rectangular Callout 29"/>
            <p:cNvSpPr/>
            <p:nvPr/>
          </p:nvSpPr>
          <p:spPr>
            <a:xfrm>
              <a:off x="3351240" y="4524480"/>
              <a:ext cx="4977000" cy="1001520"/>
            </a:xfrm>
            <a:prstGeom prst="wedgeRoundRectCallout">
              <a:avLst>
                <a:gd name="adj1" fmla="val -62546"/>
                <a:gd name="adj2" fmla="val 25634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9e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54" name="TextBox 4"/>
            <p:cNvSpPr/>
            <p:nvPr/>
          </p:nvSpPr>
          <p:spPr>
            <a:xfrm>
              <a:off x="3585240" y="4825080"/>
              <a:ext cx="48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The letter ‘s’ is making the sound /zh/.</a:t>
              </a:r>
              <a:endParaRPr b="0" lang="en-US" sz="20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rcRect l="0" t="0" r="0" b="20292"/>
          <a:stretch/>
        </p:blipFill>
        <p:spPr>
          <a:xfrm>
            <a:off x="1139760" y="2251080"/>
            <a:ext cx="6765840" cy="4168800"/>
          </a:xfrm>
          <a:prstGeom prst="rect">
            <a:avLst/>
          </a:prstGeom>
          <a:ln w="0">
            <a:noFill/>
          </a:ln>
        </p:spPr>
      </p:pic>
      <p:sp>
        <p:nvSpPr>
          <p:cNvPr id="256" name="Rounded Rectangle 5"/>
          <p:cNvSpPr/>
          <p:nvPr/>
        </p:nvSpPr>
        <p:spPr>
          <a:xfrm>
            <a:off x="755640" y="765000"/>
            <a:ext cx="7632720" cy="1486080"/>
          </a:xfrm>
          <a:prstGeom prst="roundRect">
            <a:avLst>
              <a:gd name="adj" fmla="val 16667"/>
            </a:avLst>
          </a:prstGeom>
          <a:solidFill>
            <a:srgbClr val="b9d375"/>
          </a:solidFill>
          <a:ln w="12600">
            <a:solidFill>
              <a:srgbClr val="b9d3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</a:rPr>
              <a:t>Look at your partner as they say the sound /zh/ that the ‘s’ makes. Look at the shape of their mouth and what their teeth are doing. Swap over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4"/>
          <p:cNvSpPr/>
          <p:nvPr/>
        </p:nvSpPr>
        <p:spPr>
          <a:xfrm>
            <a:off x="755640" y="773280"/>
            <a:ext cx="763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plit into two teams. Take it in turns to click on </a:t>
            </a:r>
            <a:r>
              <a:rPr b="1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two </a:t>
            </a: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cards. If you find a /zh/ word and its matching explanation, score a point for your team. Whichever team has found the most pairs at the end of the game wins.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8" name="hike"/>
          <p:cNvSpPr/>
          <p:nvPr/>
        </p:nvSpPr>
        <p:spPr>
          <a:xfrm>
            <a:off x="75564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fdd283"/>
          </a:solidFill>
          <a:ln w="12600">
            <a:solidFill>
              <a:srgbClr val="fdd2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c1c1c"/>
                </a:solidFill>
                <a:latin typeface="Twinkl"/>
              </a:rPr>
              <a:t>usual</a:t>
            </a:r>
            <a:endParaRPr b="0" lang="en-US" sz="3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9" name="shining"/>
          <p:cNvSpPr/>
          <p:nvPr/>
        </p:nvSpPr>
        <p:spPr>
          <a:xfrm>
            <a:off x="270504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ff9e6b"/>
          </a:solidFill>
          <a:ln w="12600">
            <a:solidFill>
              <a:srgbClr val="ff9e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</a:rPr>
              <a:t>being able to see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0" name="scaring"/>
          <p:cNvSpPr/>
          <p:nvPr/>
        </p:nvSpPr>
        <p:spPr>
          <a:xfrm>
            <a:off x="465300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73c4f1"/>
          </a:solidFill>
          <a:ln w="12600">
            <a:solidFill>
              <a:srgbClr val="73c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c1c1c"/>
                </a:solidFill>
                <a:latin typeface="Twinkl"/>
              </a:rPr>
              <a:t>pleasure</a:t>
            </a:r>
            <a:endParaRPr b="0" lang="en-US" sz="3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1" name="hiker"/>
          <p:cNvSpPr/>
          <p:nvPr/>
        </p:nvSpPr>
        <p:spPr>
          <a:xfrm>
            <a:off x="660240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ee8dbe"/>
          </a:solidFill>
          <a:ln w="12600">
            <a:solidFill>
              <a:srgbClr val="ee8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c1c1c"/>
                </a:solidFill>
                <a:latin typeface="Twinkl"/>
              </a:rPr>
              <a:t>measure</a:t>
            </a:r>
            <a:endParaRPr b="0" lang="en-US" sz="3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2" name="nice"/>
          <p:cNvSpPr/>
          <p:nvPr/>
        </p:nvSpPr>
        <p:spPr>
          <a:xfrm>
            <a:off x="75564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bf95d8"/>
          </a:solidFill>
          <a:ln w="12600">
            <a:solidFill>
              <a:srgbClr val="bf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</a:rPr>
              <a:t>your free time when you are not at work or school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3" name="hiked"/>
          <p:cNvSpPr/>
          <p:nvPr/>
        </p:nvSpPr>
        <p:spPr>
          <a:xfrm>
            <a:off x="270504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fdd283"/>
          </a:solidFill>
          <a:ln w="12600">
            <a:solidFill>
              <a:srgbClr val="fdd2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</a:rPr>
              <a:t>something that often happens, normal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4" name="shiny"/>
          <p:cNvSpPr/>
          <p:nvPr/>
        </p:nvSpPr>
        <p:spPr>
          <a:xfrm>
            <a:off x="465300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ee8dbe"/>
          </a:solidFill>
          <a:ln w="12600">
            <a:solidFill>
              <a:srgbClr val="ee8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</a:rPr>
              <a:t>to find out how long, heavy, full something is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5" name="nicest"/>
          <p:cNvSpPr/>
          <p:nvPr/>
        </p:nvSpPr>
        <p:spPr>
          <a:xfrm>
            <a:off x="660240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bf95d8"/>
          </a:solidFill>
          <a:ln w="12600">
            <a:solidFill>
              <a:srgbClr val="bf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c1c1c"/>
                </a:solidFill>
                <a:latin typeface="Twinkl"/>
              </a:rPr>
              <a:t>leisure </a:t>
            </a:r>
            <a:endParaRPr b="0" lang="en-US" sz="3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6" name="shine"/>
          <p:cNvSpPr/>
          <p:nvPr/>
        </p:nvSpPr>
        <p:spPr>
          <a:xfrm>
            <a:off x="75564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b9d375"/>
          </a:solidFill>
          <a:ln w="12600">
            <a:solidFill>
              <a:srgbClr val="b9d3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</a:rPr>
              <a:t>a particular event 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7" name="nicer"/>
          <p:cNvSpPr/>
          <p:nvPr/>
        </p:nvSpPr>
        <p:spPr>
          <a:xfrm>
            <a:off x="270504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b9d375"/>
          </a:solidFill>
          <a:ln w="12600">
            <a:solidFill>
              <a:srgbClr val="b9d3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c1c1c"/>
                </a:solidFill>
                <a:latin typeface="Twinkl"/>
              </a:rPr>
              <a:t>occasion</a:t>
            </a:r>
            <a:endParaRPr b="0" lang="en-US" sz="3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8" name="scare"/>
          <p:cNvSpPr/>
          <p:nvPr/>
        </p:nvSpPr>
        <p:spPr>
          <a:xfrm>
            <a:off x="465300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ff9e6b"/>
          </a:solidFill>
          <a:ln w="12600">
            <a:solidFill>
              <a:srgbClr val="ff9e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1c1c1c"/>
                </a:solidFill>
                <a:latin typeface="Twinkl"/>
              </a:rPr>
              <a:t>vision </a:t>
            </a:r>
            <a:endParaRPr b="0" lang="en-US" sz="3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9" name="scary"/>
          <p:cNvSpPr/>
          <p:nvPr/>
        </p:nvSpPr>
        <p:spPr>
          <a:xfrm>
            <a:off x="660240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73c4f1"/>
          </a:solidFill>
          <a:ln w="12600">
            <a:solidFill>
              <a:srgbClr val="73c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</a:rPr>
              <a:t>a feeling of happiness or enjoy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0" name="1"/>
          <p:cNvSpPr/>
          <p:nvPr/>
        </p:nvSpPr>
        <p:spPr>
          <a:xfrm>
            <a:off x="75564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1" name="2"/>
          <p:cNvSpPr/>
          <p:nvPr/>
        </p:nvSpPr>
        <p:spPr>
          <a:xfrm>
            <a:off x="270504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2" name="3"/>
          <p:cNvSpPr/>
          <p:nvPr/>
        </p:nvSpPr>
        <p:spPr>
          <a:xfrm>
            <a:off x="465300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3" name="4"/>
          <p:cNvSpPr/>
          <p:nvPr/>
        </p:nvSpPr>
        <p:spPr>
          <a:xfrm>
            <a:off x="6602400" y="1612800"/>
            <a:ext cx="1785960" cy="1092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4" name="5"/>
          <p:cNvSpPr/>
          <p:nvPr/>
        </p:nvSpPr>
        <p:spPr>
          <a:xfrm>
            <a:off x="75564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5" name="6"/>
          <p:cNvSpPr/>
          <p:nvPr/>
        </p:nvSpPr>
        <p:spPr>
          <a:xfrm>
            <a:off x="270504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6" name="7"/>
          <p:cNvSpPr/>
          <p:nvPr/>
        </p:nvSpPr>
        <p:spPr>
          <a:xfrm>
            <a:off x="465300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7" name="8"/>
          <p:cNvSpPr/>
          <p:nvPr/>
        </p:nvSpPr>
        <p:spPr>
          <a:xfrm>
            <a:off x="6602400" y="2819520"/>
            <a:ext cx="1785960" cy="10936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8" name="9"/>
          <p:cNvSpPr/>
          <p:nvPr/>
        </p:nvSpPr>
        <p:spPr>
          <a:xfrm>
            <a:off x="75564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9" name="10"/>
          <p:cNvSpPr/>
          <p:nvPr/>
        </p:nvSpPr>
        <p:spPr>
          <a:xfrm>
            <a:off x="270504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0" name="11"/>
          <p:cNvSpPr/>
          <p:nvPr/>
        </p:nvSpPr>
        <p:spPr>
          <a:xfrm>
            <a:off x="465300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1" name="12"/>
          <p:cNvSpPr/>
          <p:nvPr/>
        </p:nvSpPr>
        <p:spPr>
          <a:xfrm>
            <a:off x="6602400" y="4027320"/>
            <a:ext cx="1785960" cy="1094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winkl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716040" y="5297400"/>
            <a:ext cx="7772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c1c1c"/>
                </a:solidFill>
                <a:latin typeface="Twinkl"/>
                <a:ea typeface="Sassoon Infant Rg"/>
              </a:rPr>
              <a:t>(Click the cards again to turn them back over if the words are not all found in that turn.)</a:t>
            </a:r>
            <a:endParaRPr b="0" lang="en-US" sz="15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entagon 5"/>
          <p:cNvSpPr/>
          <p:nvPr/>
        </p:nvSpPr>
        <p:spPr>
          <a:xfrm>
            <a:off x="444600" y="770040"/>
            <a:ext cx="5032440" cy="453960"/>
          </a:xfrm>
          <a:custGeom>
            <a:avLst/>
            <a:gdLst>
              <a:gd name="textAreaLeft" fmla="*/ 0 w 5032440"/>
              <a:gd name="textAreaRight" fmla="*/ 5032800 w 50324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6" y="0"/>
                </a:lnTo>
                <a:lnTo>
                  <a:pt x="21600" y="10800"/>
                </a:lnTo>
                <a:lnTo>
                  <a:pt x="206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3c4f1"/>
          </a:solidFill>
          <a:ln w="12600">
            <a:solidFill>
              <a:srgbClr val="73c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Here are this week’s spellings to practise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rcRect l="0" t="0" r="0" b="43495"/>
          <a:stretch/>
        </p:blipFill>
        <p:spPr>
          <a:xfrm>
            <a:off x="1981080" y="4268880"/>
            <a:ext cx="5181840" cy="21574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2766960" y="1455840"/>
            <a:ext cx="197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elevision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reasur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sual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ivision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ision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4375080" y="1455840"/>
            <a:ext cx="197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pleasur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measur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occasion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sually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leisur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762120" y="3051000"/>
            <a:ext cx="2438280" cy="1992600"/>
          </a:xfrm>
          <a:prstGeom prst="pie">
            <a:avLst/>
          </a:pr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1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c1c1c"/>
                </a:solidFill>
                <a:latin typeface="Twinkl SemiBold"/>
              </a:rPr>
              <a:t>Work hard to learn them and the rule we have looked at today.</a:t>
            </a:r>
            <a:endParaRPr b="0" lang="en-US" sz="17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Twinkl</cp:lastModifiedBy>
  <dcterms:modified xsi:type="dcterms:W3CDTF">2017-01-17T16:59:26Z</dcterms:modified>
  <cp:revision>157</cp:revision>
  <dc:subject/>
  <dc:title>Geography</dc:title>
</cp:coreProperties>
</file>