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EC6D-D822-48BC-855C-FC4A65578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6F0A-4F88-41BD-8BE8-26C85CF50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0B86-F8FF-4E14-8FF6-FD482B9C4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F267-12FD-4EE3-9ACF-8E24A2117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9826-9E40-49DC-A5A8-671979DDE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00ED-0E80-4131-ADBE-28A362CCB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EEB5-87AB-479F-BD20-48A6AAAF0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0443-7B8C-41CA-93ED-2698BF114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CD61-91D1-47B0-8374-B1F1296F2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0DC6-0064-41A6-AFE5-C3A894EB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A026-19E1-49CC-9DAA-5FE736237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2142-1CA9-4BCC-9689-1609AF407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55F3-C61F-43EB-ABBF-9C84DF12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4E87-E9B3-4C50-9790-4AE73603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1479-70AB-4BB6-BF65-066BF80E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3DD7-8BA1-4521-B6ED-227767B9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4D9A-DCFB-4B2B-8660-BB6FE97B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ECDD-28BF-483B-BFE1-2C5C03F8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E976-3290-499A-9CB9-60B28746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4769-FB45-4330-9EE1-4BC6E2E7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669A-F6A2-4A4F-A270-5F1358C0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8ED4-D132-4111-A5DA-71B7F0DE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60DF-30B9-475D-9C05-CDAD950E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7D45-4854-4321-8834-76A4709E2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9B70-352E-447A-844B-E2BADF407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3252-3C18-40C1-A434-02C1E5C1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4557-BE9B-487A-895D-55024DE6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1D71-44AA-4018-8A7B-1F2695E4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EE82-26F1-4397-B03C-0C103336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A885-F4C6-4791-87B6-98E55C41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DDE5-706A-4835-A84F-B11A3250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0A37-54EB-4EFF-8035-EF68A30B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CEB6-07CD-4BC8-AD23-CBE0C47B4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240" y="4830840"/>
            <a:ext cx="70102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-34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60" indent="-28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20" indent="-2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40" indent="-22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60" indent="-22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60" indent="-22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60" indent="-22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48BC-BC4C-43BF-9B52-67C8EE4CF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tlaatstecontinent.be/afbeeldingen/boeken/delanoy_scott.jpg&amp;imgrefurl=http://www.hetlaatstecontinent.be/boeken/de_la_noy_scott.html&amp;h=252&amp;w=163&amp;sz=12&amp;hl=en&amp;start=11&amp;um=1&amp;tbnid=1a2S4kUkKXgoEM:&amp;tbnh=111&amp;tbnw=72&amp;prev=/images%3Fq%3Dscott%2Bof%2Bthe%2BAntarctic%26svnum%3D10%26um%3D1%26hl%3Den%26rls%3Dcom.microsoft:en-us:IE-SearchBox%26rlz%3D1I7DKUK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sau50.k12.nh.us/rye/rjh/antarctica06/images/Scott.JPG&amp;imgrefurl=http://www.sau50.k12.nh.us/rye/rjh/antarctica06/nov6.htm&amp;h=525&amp;w=700&amp;sz=77&amp;hl=en&amp;start=16&amp;um=1&amp;tbnid=jIxp6LB4UJUGiM:&amp;tbnh=105&amp;tbnw=140&amp;prev=/images%3Fq%3Dscott%2Bof%2Bthe%2BAntarctic%26svnum%3D10%26um%3D1%26hl%3Den%26rls%3Dcom.microsoft:en-us:IE-SearchBox%26rlz%3D1I7DKUK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shillpages.com/movies/scottoftheantarctic1948dvd.jpg&amp;imgrefurl=http://shillpages.com/movies/ss.shtml&amp;h=480&amp;w=640&amp;sz=110&amp;hl=en&amp;start=25&amp;um=1&amp;tbnid=tiWv-3_96VaMdM:&amp;tbnh=103&amp;tbnw=137&amp;prev=/images%3Fq%3Dscott%2Bof%2Bthe%2BAntarctic%26start%3D18%26ndsp%3D18%26svnum%3D10%26um%3D1%26hl%3Den%26rls%3Dcom.microsoft:en-us:IE-SearchBox%26rlz%3D1I7DKUK%26sa%3DN" TargetMode="External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on earth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spot the clu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-36360" y="39600"/>
            <a:ext cx="921672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39600"/>
            <a:ext cx="921672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-36360" y="39600"/>
            <a:ext cx="921672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-36360" y="39600"/>
            <a:ext cx="921672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Narrow"/>
              </a:rPr>
              <a:t>How do we know he was famou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1676520"/>
            <a:ext cx="1578240" cy="2433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8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19720" y="2057400"/>
            <a:ext cx="2628720" cy="1971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9"/>
          <p:cNvSpPr/>
          <p:nvPr/>
        </p:nvSpPr>
        <p:spPr>
          <a:xfrm>
            <a:off x="297180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731520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 stat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2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14400" y="4343400"/>
            <a:ext cx="2057400" cy="15462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23"/>
          <p:cNvSpPr/>
          <p:nvPr/>
        </p:nvSpPr>
        <p:spPr>
          <a:xfrm>
            <a:off x="3352680" y="4800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 fi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5" descr=""/>
          <p:cNvPicPr/>
          <p:nvPr/>
        </p:nvPicPr>
        <p:blipFill>
          <a:blip r:embed="rId7"/>
          <a:stretch/>
        </p:blipFill>
        <p:spPr>
          <a:xfrm>
            <a:off x="4495680" y="4343400"/>
            <a:ext cx="2438640" cy="14716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6"/>
          <p:cNvSpPr/>
          <p:nvPr/>
        </p:nvSpPr>
        <p:spPr>
          <a:xfrm>
            <a:off x="7238880" y="4724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 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12:21:11Z</dcterms:created>
  <dc:creator>Hampshire History Centre </dc:creator>
  <dc:description/>
  <dc:language>en-US</dc:language>
  <cp:lastModifiedBy>jackie hughes</cp:lastModifiedBy>
  <dcterms:modified xsi:type="dcterms:W3CDTF">2021-02-22T17:05:54Z</dcterms:modified>
  <cp:revision>7</cp:revision>
  <dc:subject/>
  <dc:title>PowerPoint Presentation</dc:title>
</cp:coreProperties>
</file>