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09AE-447A-4513-844C-DA6ABDA3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3369-C13F-4409-9E46-2A357694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AE71-032E-467F-995A-5ABF4491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89D4-E919-437D-809F-8DB3B5CA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EDDC-C780-4516-B0D8-8D1F7902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8A17-3DD2-464F-A84C-8A68FC4D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FF79-5A5D-4D73-92B3-5457258C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D760-6DD4-4F17-8CE9-C8759806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0D5-6307-47C0-9A15-411C9A57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11E7-959F-424A-88B5-102B0040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13B9-9E25-409E-8D19-EAEE7AC4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7AE9-AAEF-468D-8015-69C812B1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C18D-3125-450B-BBA7-4577B6D53D6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785840"/>
            <a:ext cx="64008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2f2f2"/>
                </a:solidFill>
                <a:latin typeface="Arial Rounded MT Bold"/>
              </a:rPr>
              <a:t>10</a:t>
            </a:r>
            <a:r>
              <a:rPr b="0" lang="en-GB" sz="4200" spc="-1" strike="noStrike" baseline="30000">
                <a:solidFill>
                  <a:srgbClr val="f2f2f2"/>
                </a:solidFill>
                <a:latin typeface="Arial Rounded MT Bold"/>
              </a:rPr>
              <a:t>th</a:t>
            </a:r>
            <a:r>
              <a:rPr b="0" lang="en-GB" sz="4200" spc="-1" strike="noStrike">
                <a:solidFill>
                  <a:srgbClr val="f2f2f2"/>
                </a:solidFill>
                <a:latin typeface="Arial Rounded MT Bold"/>
              </a:rPr>
              <a:t> September 2007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Rectangle 6" descr=""/>
          <p:cNvPicPr/>
          <p:nvPr/>
        </p:nvPicPr>
        <p:blipFill>
          <a:blip r:embed="rId1"/>
          <a:stretch/>
        </p:blipFill>
        <p:spPr>
          <a:xfrm>
            <a:off x="1712880" y="1073160"/>
            <a:ext cx="5870520" cy="1474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globe"/>
          <p:cNvPicPr/>
          <p:nvPr/>
        </p:nvPicPr>
        <p:blipFill>
          <a:blip r:embed="rId2"/>
          <a:stretch/>
        </p:blipFill>
        <p:spPr>
          <a:xfrm>
            <a:off x="3500280" y="2500200"/>
            <a:ext cx="2352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www.wpclipart.com/geography/continents/blank_world_map.png"/>
          <p:cNvPicPr/>
          <p:nvPr/>
        </p:nvPicPr>
        <p:blipFill>
          <a:blip r:embed="rId1"/>
          <a:stretch/>
        </p:blipFill>
        <p:spPr>
          <a:xfrm>
            <a:off x="-20520" y="285840"/>
            <a:ext cx="9164520" cy="628632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6715080" y="13572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  <a:ea typeface="Arial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4"/>
          <p:cNvSpPr/>
          <p:nvPr/>
        </p:nvSpPr>
        <p:spPr>
          <a:xfrm>
            <a:off x="5214960" y="500040"/>
            <a:ext cx="3929040" cy="3214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www.wpclipart.com/geography/continents/blank_world_map.png"/>
          <p:cNvPicPr/>
          <p:nvPr/>
        </p:nvPicPr>
        <p:blipFill>
          <a:blip r:embed="rId1"/>
          <a:stretch/>
        </p:blipFill>
        <p:spPr>
          <a:xfrm>
            <a:off x="-20520" y="285840"/>
            <a:ext cx="9164520" cy="628632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4143240" y="6000840"/>
            <a:ext cx="21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  <a:ea typeface="Arial"/>
              </a:rPr>
              <a:t>Antar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4"/>
          <p:cNvSpPr/>
          <p:nvPr/>
        </p:nvSpPr>
        <p:spPr>
          <a:xfrm>
            <a:off x="0" y="5643720"/>
            <a:ext cx="9144000" cy="1214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Do you know how many oceans there ar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4071960" y="3714840"/>
            <a:ext cx="121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www.wpclipart.com/geography/continents/blank_world_map.png"/>
          <p:cNvPicPr/>
          <p:nvPr/>
        </p:nvPicPr>
        <p:blipFill>
          <a:blip r:embed="rId1"/>
          <a:stretch/>
        </p:blipFill>
        <p:spPr>
          <a:xfrm>
            <a:off x="-20520" y="285840"/>
            <a:ext cx="9164520" cy="628632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5786280" y="3571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Indian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3786120" y="521496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Southern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3786120" y="5000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Arctic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2714760" y="2643120"/>
            <a:ext cx="14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Atlantic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1071720" y="3929040"/>
            <a:ext cx="10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Pacific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7858080" y="271476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Pacific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1000080" y="1785960"/>
            <a:ext cx="1857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  <a:ea typeface="Arial"/>
              </a:rPr>
              <a:t>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2286000" y="3571920"/>
            <a:ext cx="1000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  <a:ea typeface="Arial"/>
              </a:rPr>
              <a:t>Sou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4357800" y="300024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  <a:ea typeface="Arial"/>
              </a:rPr>
              <a:t>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5643720" y="60721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  <a:ea typeface="Arial"/>
              </a:rPr>
              <a:t>Antar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5929200" y="150012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  <a:ea typeface="Arial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7143840" y="4143240"/>
            <a:ext cx="1285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  <a:ea typeface="Arial"/>
              </a:rPr>
              <a:t>Austral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4071960" y="1928880"/>
            <a:ext cx="1285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  <a:ea typeface="Arial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2f2f2"/>
                </a:solidFill>
                <a:latin typeface="Arial Rounded MT Bold"/>
              </a:rPr>
              <a:t>How many continents are there in the world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071960" y="3786120"/>
            <a:ext cx="107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2f2f2"/>
                </a:solidFill>
                <a:latin typeface="Arial Rounded MT Bold"/>
              </a:rPr>
              <a:t>Can you name the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wpclipart.com/geography/continents/blank_world_map.png"/>
          <p:cNvPicPr/>
          <p:nvPr/>
        </p:nvPicPr>
        <p:blipFill>
          <a:blip r:embed="rId1"/>
          <a:stretch/>
        </p:blipFill>
        <p:spPr>
          <a:xfrm>
            <a:off x="500040" y="1306440"/>
            <a:ext cx="809316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wpclipart.com/geography/continents/blank_world_map.png"/>
          <p:cNvPicPr/>
          <p:nvPr/>
        </p:nvPicPr>
        <p:blipFill>
          <a:blip r:embed="rId1"/>
          <a:stretch/>
        </p:blipFill>
        <p:spPr>
          <a:xfrm>
            <a:off x="-20520" y="285840"/>
            <a:ext cx="9164520" cy="6286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4286160" y="2000160"/>
            <a:ext cx="857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  <a:ea typeface="Arial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857160" y="2214720"/>
            <a:ext cx="1857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857240" y="3786120"/>
            <a:ext cx="1785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  <a:ea typeface="Arial"/>
              </a:rPr>
              <a:t>Sou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6929280" y="4071960"/>
            <a:ext cx="1714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  <a:ea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5643720" y="600084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  <a:ea typeface="Arial"/>
              </a:rPr>
              <a:t>Antar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4357800" y="300024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  <a:ea typeface="Arial"/>
              </a:rPr>
              <a:t>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6215040" y="164304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  <a:ea typeface="Arial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ich Continent is missing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wpclipart.com/geography/continents/blank_world_map.png"/>
          <p:cNvPicPr/>
          <p:nvPr/>
        </p:nvPicPr>
        <p:blipFill>
          <a:blip r:embed="rId1"/>
          <a:stretch/>
        </p:blipFill>
        <p:spPr>
          <a:xfrm>
            <a:off x="-20520" y="285840"/>
            <a:ext cx="9164520" cy="628632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500040" y="192888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  <a:ea typeface="Arial"/>
              </a:rPr>
              <a:t>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4"/>
          <p:cNvSpPr/>
          <p:nvPr/>
        </p:nvSpPr>
        <p:spPr>
          <a:xfrm>
            <a:off x="0" y="500040"/>
            <a:ext cx="2714760" cy="2857680"/>
          </a:xfrm>
          <a:custGeom>
            <a:avLst/>
            <a:gdLst>
              <a:gd name="textAreaLeft" fmla="*/ 132480 w 2714760"/>
              <a:gd name="textAreaRight" fmla="*/ 2582280 w 2714760"/>
              <a:gd name="textAreaTop" fmla="*/ 132480 h 2857680"/>
              <a:gd name="textAreaBottom" fmla="*/ 2725200 h 2857680"/>
            </a:gdLst>
            <a:ahLst/>
            <a:rect l="textAreaLeft" t="textAreaTop" r="textAreaRight" b="textAreaBottom"/>
            <a:pathLst>
              <a:path w="21600" h="22737">
                <a:moveTo>
                  <a:pt x="3600" y="0"/>
                </a:moveTo>
                <a:arcTo wR="3600" hR="3600" stAng="16200000" swAng="-5400000"/>
                <a:lnTo>
                  <a:pt x="0" y="19137"/>
                </a:lnTo>
                <a:arcTo wR="3600" hR="3600" stAng="10800000" swAng="-5400000"/>
                <a:lnTo>
                  <a:pt x="18000" y="227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www.wpclipart.com/geography/continents/blank_world_map.png"/>
          <p:cNvPicPr/>
          <p:nvPr/>
        </p:nvPicPr>
        <p:blipFill>
          <a:blip r:embed="rId1"/>
          <a:stretch/>
        </p:blipFill>
        <p:spPr>
          <a:xfrm>
            <a:off x="-20520" y="285840"/>
            <a:ext cx="9164520" cy="628632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7072200" y="407196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  <a:ea typeface="Arial"/>
              </a:rPr>
              <a:t>Australasi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4"/>
          <p:cNvSpPr/>
          <p:nvPr/>
        </p:nvSpPr>
        <p:spPr>
          <a:xfrm>
            <a:off x="6643800" y="3643200"/>
            <a:ext cx="2500200" cy="1428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www.wpclipart.com/geography/continents/blank_world_map.png"/>
          <p:cNvPicPr/>
          <p:nvPr/>
        </p:nvPicPr>
        <p:blipFill>
          <a:blip r:embed="rId1"/>
          <a:stretch/>
        </p:blipFill>
        <p:spPr>
          <a:xfrm>
            <a:off x="-20520" y="285840"/>
            <a:ext cx="9164520" cy="628632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4214880" y="1500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  <a:ea typeface="Arial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3929040" y="857160"/>
            <a:ext cx="1500120" cy="1714680"/>
          </a:xfrm>
          <a:custGeom>
            <a:avLst/>
            <a:gdLst>
              <a:gd name="textAreaLeft" fmla="*/ 73080 w 1500120"/>
              <a:gd name="textAreaRight" fmla="*/ 1427040 w 1500120"/>
              <a:gd name="textAreaTop" fmla="*/ 73080 h 1714680"/>
              <a:gd name="textAreaBottom" fmla="*/ 1641600 h 1714680"/>
            </a:gdLst>
            <a:ahLst/>
            <a:rect l="textAreaLeft" t="textAreaTop" r="textAreaRight" b="textAreaBottom"/>
            <a:pathLst>
              <a:path w="21600" h="24689">
                <a:moveTo>
                  <a:pt x="3600" y="0"/>
                </a:moveTo>
                <a:arcTo wR="3600" hR="3600" stAng="16200000" swAng="-5400000"/>
                <a:lnTo>
                  <a:pt x="0" y="21089"/>
                </a:lnTo>
                <a:arcTo wR="3600" hR="3600" stAng="10800000" swAng="-5400000"/>
                <a:lnTo>
                  <a:pt x="18000" y="246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www.wpclipart.com/geography/continents/blank_world_map.png"/>
          <p:cNvPicPr/>
          <p:nvPr/>
        </p:nvPicPr>
        <p:blipFill>
          <a:blip r:embed="rId1"/>
          <a:stretch/>
        </p:blipFill>
        <p:spPr>
          <a:xfrm>
            <a:off x="-20520" y="285840"/>
            <a:ext cx="9164520" cy="628632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4143240" y="314316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  <a:ea typeface="Arial"/>
              </a:rPr>
              <a:t>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4"/>
          <p:cNvSpPr/>
          <p:nvPr/>
        </p:nvSpPr>
        <p:spPr>
          <a:xfrm>
            <a:off x="3786120" y="2643120"/>
            <a:ext cx="1714680" cy="2000160"/>
          </a:xfrm>
          <a:custGeom>
            <a:avLst/>
            <a:gdLst>
              <a:gd name="textAreaLeft" fmla="*/ 83520 w 1714680"/>
              <a:gd name="textAreaRight" fmla="*/ 1631160 w 1714680"/>
              <a:gd name="textAreaTop" fmla="*/ 83520 h 2000160"/>
              <a:gd name="textAreaBottom" fmla="*/ 1916640 h 2000160"/>
            </a:gdLst>
            <a:ahLst/>
            <a:rect l="textAreaLeft" t="textAreaTop" r="textAreaRight" b="textAreaBottom"/>
            <a:pathLst>
              <a:path w="21600" h="25195">
                <a:moveTo>
                  <a:pt x="3600" y="0"/>
                </a:moveTo>
                <a:arcTo wR="3600" hR="3600" stAng="16200000" swAng="-5400000"/>
                <a:lnTo>
                  <a:pt x="0" y="21595"/>
                </a:lnTo>
                <a:arcTo wR="3600" hR="3600" stAng="10800000" swAng="-5400000"/>
                <a:lnTo>
                  <a:pt x="18000" y="251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0:49:00Z</dcterms:created>
  <dc:creator>Aidan &amp; Jan</dc:creator>
  <dc:description/>
  <dc:language>en-US</dc:language>
  <cp:lastModifiedBy>jackie hughes</cp:lastModifiedBy>
  <dcterms:modified xsi:type="dcterms:W3CDTF">2021-01-11T17:24:42Z</dcterms:modified>
  <cp:revision>13</cp:revision>
  <dc:subject/>
  <dc:title>Slide 1</dc:title>
</cp:coreProperties>
</file>