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move the slide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92AA-6287-4290-A4C3-ADACC298045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imation made by J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125C-C106-4491-8504-570BFAACD4DD}" type="slidenum">
              <a:rPr b="0" lang="en-GB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imation made by J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C5F3-7B2F-490B-8CAA-95D1E7C9FB7C}" type="slidenum">
              <a:rPr b="0" lang="en-GB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imation made by J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9952-F5A7-40DA-92BB-12EAFA0A613A}" type="slidenum">
              <a:rPr b="0" lang="en-GB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imation made by J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B68A-DD9A-4CDB-A9A2-710C93DDEE3D}" type="slidenum">
              <a:rPr b="0" lang="en-GB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imation made by J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DD62-3884-422B-9249-3154F851D1AC}" type="slidenum">
              <a:rPr b="0" lang="en-GB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E616-E4F2-4F5C-937F-B528BA0437A8}" type="slidenum">
              <a:rPr b="0" lang="en-GB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ounded Rectangle 3"/>
          <p:cNvSpPr/>
          <p:nvPr/>
        </p:nvSpPr>
        <p:spPr>
          <a:xfrm>
            <a:off x="503280" y="2930400"/>
            <a:ext cx="8137440" cy="341496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7" name="Rounded Rectangle 4"/>
          <p:cNvSpPr/>
          <p:nvPr/>
        </p:nvSpPr>
        <p:spPr>
          <a:xfrm>
            <a:off x="503280" y="512640"/>
            <a:ext cx="8137440" cy="219240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8" name="Title 1"/>
          <p:cNvSpPr/>
          <p:nvPr/>
        </p:nvSpPr>
        <p:spPr>
          <a:xfrm>
            <a:off x="628560" y="307188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winkl"/>
              </a:rPr>
              <a:t>Success Criteria</a:t>
            </a:r>
            <a:endParaRPr b="0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628560" y="73512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winkl"/>
              </a:rPr>
              <a:t>Aim</a:t>
            </a:r>
            <a:endParaRPr b="0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0" name="Content Placeholder 15"/>
          <p:cNvSpPr/>
          <p:nvPr/>
        </p:nvSpPr>
        <p:spPr>
          <a:xfrm>
            <a:off x="628560" y="3467160"/>
            <a:ext cx="78868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252000" tIns="252000" bIns="180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Statement 1 Lorem ipsum dolor sit amet, consectetur adipiscing elit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Statement 2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Twinkl"/>
                <a:ea typeface="Sassoon Infant Rg"/>
              </a:rPr>
              <a:t>Sub statement</a:t>
            </a:r>
            <a:endParaRPr b="0" lang="en-US" sz="1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10.png"/><Relationship Id="rId14" Type="http://schemas.openxmlformats.org/officeDocument/2006/relationships/image" Target="../media/image22.png"/><Relationship Id="rId15" Type="http://schemas.openxmlformats.org/officeDocument/2006/relationships/image" Target="../media/image13.png"/><Relationship Id="rId16" Type="http://schemas.openxmlformats.org/officeDocument/2006/relationships/image" Target="../media/image23.png"/><Relationship Id="rId17" Type="http://schemas.openxmlformats.org/officeDocument/2006/relationships/image" Target="../media/image15.png"/><Relationship Id="rId18" Type="http://schemas.openxmlformats.org/officeDocument/2006/relationships/image" Target="../media/image24.png"/><Relationship Id="rId19" Type="http://schemas.openxmlformats.org/officeDocument/2006/relationships/image" Target="../media/image17.png"/><Relationship Id="rId20" Type="http://schemas.openxmlformats.org/officeDocument/2006/relationships/image" Target="../media/image25.png"/><Relationship Id="rId21" Type="http://schemas.openxmlformats.org/officeDocument/2006/relationships/image" Target="../media/image19.png"/><Relationship Id="rId22" Type="http://schemas.openxmlformats.org/officeDocument/2006/relationships/image" Target="../media/image26.png"/><Relationship Id="rId23" Type="http://schemas.openxmlformats.org/officeDocument/2006/relationships/image" Target="../media/image21.png"/><Relationship Id="rId24" Type="http://schemas.openxmlformats.org/officeDocument/2006/relationships/slideLayout" Target="../slideLayouts/slideLayout25.xml"/><Relationship Id="rId2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1"/>
          <p:cNvSpPr/>
          <p:nvPr/>
        </p:nvSpPr>
        <p:spPr>
          <a:xfrm>
            <a:off x="912960" y="730080"/>
            <a:ext cx="730872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Read these words.</a:t>
            </a:r>
            <a:endParaRPr b="0" lang="en-US" sz="20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What do they all have in common? Tell your friend.</a:t>
            </a:r>
            <a:endParaRPr b="0" lang="en-US" sz="2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7" name="answer"/>
          <p:cNvSpPr/>
          <p:nvPr/>
        </p:nvSpPr>
        <p:spPr>
          <a:xfrm>
            <a:off x="3857760" y="5621400"/>
            <a:ext cx="1428480" cy="471600"/>
          </a:xfrm>
          <a:prstGeom prst="roundRect">
            <a:avLst>
              <a:gd name="adj" fmla="val 16667"/>
            </a:avLst>
          </a:prstGeom>
          <a:solidFill>
            <a:srgbClr val="954ebe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inkl"/>
              </a:rPr>
              <a:t>Answer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755640" y="1625760"/>
            <a:ext cx="7632720" cy="3843000"/>
            <a:chOff x="755640" y="1625760"/>
            <a:chExt cx="7632720" cy="3843000"/>
          </a:xfrm>
        </p:grpSpPr>
        <p:sp>
          <p:nvSpPr>
            <p:cNvPr id="169" name="Rectangle 1"/>
            <p:cNvSpPr/>
            <p:nvPr/>
          </p:nvSpPr>
          <p:spPr>
            <a:xfrm>
              <a:off x="755640" y="1625760"/>
              <a:ext cx="2544840" cy="3843000"/>
            </a:xfrm>
            <a:prstGeom prst="rect">
              <a:avLst/>
            </a:prstGeom>
            <a:solidFill>
              <a:srgbClr val="f7c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1c1c1c"/>
                  </a:solidFill>
                  <a:latin typeface="Twinkl"/>
                </a:rPr>
                <a:t>want</a:t>
              </a:r>
              <a:endParaRPr b="0" lang="en-US" sz="36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170" name="Rectangle 17"/>
            <p:cNvSpPr/>
            <p:nvPr/>
          </p:nvSpPr>
          <p:spPr>
            <a:xfrm>
              <a:off x="3300480" y="1625760"/>
              <a:ext cx="2543040" cy="3843000"/>
            </a:xfrm>
            <a:prstGeom prst="rect">
              <a:avLst/>
            </a:prstGeom>
            <a:solidFill>
              <a:srgbClr val="a7d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1c1c1c"/>
                  </a:solidFill>
                  <a:latin typeface="Twinkl"/>
                </a:rPr>
                <a:t>was</a:t>
              </a:r>
              <a:endParaRPr b="0" lang="en-US" sz="36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171" name="Rectangle 19"/>
            <p:cNvSpPr/>
            <p:nvPr/>
          </p:nvSpPr>
          <p:spPr>
            <a:xfrm>
              <a:off x="5843520" y="1625760"/>
              <a:ext cx="2544840" cy="3843000"/>
            </a:xfrm>
            <a:prstGeom prst="rect">
              <a:avLst/>
            </a:prstGeom>
            <a:solidFill>
              <a:srgbClr val="d5b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1c1c1c"/>
                  </a:solidFill>
                  <a:latin typeface="Twinkl"/>
                </a:rPr>
                <a:t>wander</a:t>
              </a:r>
              <a:endParaRPr b="0" lang="en-US" sz="36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grpSp>
        <p:nvGrpSpPr>
          <p:cNvPr id="172" name="Group 25"/>
          <p:cNvGrpSpPr/>
          <p:nvPr/>
        </p:nvGrpSpPr>
        <p:grpSpPr>
          <a:xfrm>
            <a:off x="755640" y="1625760"/>
            <a:ext cx="7632720" cy="1135080"/>
            <a:chOff x="755640" y="1625760"/>
            <a:chExt cx="7632720" cy="1135080"/>
          </a:xfrm>
        </p:grpSpPr>
        <p:sp>
          <p:nvSpPr>
            <p:cNvPr id="173" name="Rectangle 26"/>
            <p:cNvSpPr/>
            <p:nvPr/>
          </p:nvSpPr>
          <p:spPr>
            <a:xfrm>
              <a:off x="755640" y="1625760"/>
              <a:ext cx="2544840" cy="1135080"/>
            </a:xfrm>
            <a:prstGeom prst="rect">
              <a:avLst/>
            </a:prstGeom>
            <a:solidFill>
              <a:srgbClr val="f7c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1c1c1c"/>
                  </a:solidFill>
                  <a:latin typeface="Twinkl"/>
                </a:rPr>
                <a:t>want</a:t>
              </a:r>
              <a:endParaRPr b="0" lang="en-US" sz="36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174" name="Rectangle 27"/>
            <p:cNvSpPr/>
            <p:nvPr/>
          </p:nvSpPr>
          <p:spPr>
            <a:xfrm>
              <a:off x="3300480" y="1625760"/>
              <a:ext cx="2543040" cy="1135080"/>
            </a:xfrm>
            <a:prstGeom prst="rect">
              <a:avLst/>
            </a:prstGeom>
            <a:solidFill>
              <a:srgbClr val="a7d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1c1c1c"/>
                  </a:solidFill>
                  <a:latin typeface="Twinkl"/>
                </a:rPr>
                <a:t>was</a:t>
              </a:r>
              <a:endParaRPr b="0" lang="en-US" sz="36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175" name="Rectangle 28"/>
            <p:cNvSpPr/>
            <p:nvPr/>
          </p:nvSpPr>
          <p:spPr>
            <a:xfrm>
              <a:off x="5843520" y="1625760"/>
              <a:ext cx="2544840" cy="1135080"/>
            </a:xfrm>
            <a:prstGeom prst="rect">
              <a:avLst/>
            </a:prstGeom>
            <a:solidFill>
              <a:srgbClr val="d5b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1c1c1c"/>
                  </a:solidFill>
                  <a:latin typeface="Twinkl"/>
                </a:rPr>
                <a:t>wander</a:t>
              </a:r>
              <a:endParaRPr b="0" lang="en-US" sz="36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sp>
        <p:nvSpPr>
          <p:cNvPr id="176" name="TextBox 29"/>
          <p:cNvSpPr/>
          <p:nvPr/>
        </p:nvSpPr>
        <p:spPr>
          <a:xfrm>
            <a:off x="755640" y="3191040"/>
            <a:ext cx="7632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These words all start with </a:t>
            </a:r>
            <a:r>
              <a:rPr b="1" lang="en-GB" sz="2400" spc="-1" strike="noStrike">
                <a:solidFill>
                  <a:srgbClr val="1c1c1c"/>
                </a:solidFill>
                <a:latin typeface="Twinkl"/>
              </a:rPr>
              <a:t>‘w’</a:t>
            </a: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.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These words all have the phoneme </a:t>
            </a:r>
            <a:r>
              <a:rPr b="1" lang="en-GB" sz="2400" spc="-1" strike="noStrike">
                <a:solidFill>
                  <a:srgbClr val="1c1c1c"/>
                </a:solidFill>
                <a:latin typeface="Twinkl"/>
              </a:rPr>
              <a:t>/o/</a:t>
            </a: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 in them.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The sound </a:t>
            </a:r>
            <a:r>
              <a:rPr b="1" lang="en-GB" sz="2400" spc="-1" strike="noStrike">
                <a:solidFill>
                  <a:srgbClr val="1c1c1c"/>
                </a:solidFill>
                <a:latin typeface="Twinkl"/>
              </a:rPr>
              <a:t>/o/ </a:t>
            </a: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is spelt </a:t>
            </a:r>
            <a:r>
              <a:rPr b="1" lang="en-GB" sz="2400" spc="-1" strike="noStrike">
                <a:solidFill>
                  <a:srgbClr val="1c1c1c"/>
                </a:solidFill>
                <a:latin typeface="Twinkl"/>
              </a:rPr>
              <a:t>‘a’</a:t>
            </a: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 after the </a:t>
            </a:r>
            <a:r>
              <a:rPr b="1" lang="en-GB" sz="2400" spc="-1" strike="noStrike">
                <a:solidFill>
                  <a:srgbClr val="1c1c1c"/>
                </a:solidFill>
                <a:latin typeface="Twinkl"/>
              </a:rPr>
              <a:t>‘w’</a:t>
            </a: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.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"/>
          <p:cNvSpPr/>
          <p:nvPr/>
        </p:nvSpPr>
        <p:spPr>
          <a:xfrm>
            <a:off x="912960" y="730080"/>
            <a:ext cx="730872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Read these words.</a:t>
            </a:r>
            <a:endParaRPr b="0" lang="en-US" sz="20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What do they all have in common? Tell your friend.</a:t>
            </a:r>
            <a:endParaRPr b="0" lang="en-US" sz="2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8" name="answer"/>
          <p:cNvSpPr/>
          <p:nvPr/>
        </p:nvSpPr>
        <p:spPr>
          <a:xfrm>
            <a:off x="3857760" y="5621400"/>
            <a:ext cx="1428480" cy="471600"/>
          </a:xfrm>
          <a:prstGeom prst="roundRect">
            <a:avLst>
              <a:gd name="adj" fmla="val 16667"/>
            </a:avLst>
          </a:prstGeom>
          <a:solidFill>
            <a:srgbClr val="954ebe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inkl"/>
              </a:rPr>
              <a:t>Answer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179" name="Group 4"/>
          <p:cNvGrpSpPr/>
          <p:nvPr/>
        </p:nvGrpSpPr>
        <p:grpSpPr>
          <a:xfrm>
            <a:off x="755640" y="1625760"/>
            <a:ext cx="7632720" cy="3843000"/>
            <a:chOff x="755640" y="1625760"/>
            <a:chExt cx="7632720" cy="3843000"/>
          </a:xfrm>
        </p:grpSpPr>
        <p:sp>
          <p:nvSpPr>
            <p:cNvPr id="180" name="Rectangle 1"/>
            <p:cNvSpPr/>
            <p:nvPr/>
          </p:nvSpPr>
          <p:spPr>
            <a:xfrm>
              <a:off x="755640" y="1625760"/>
              <a:ext cx="2544840" cy="3843000"/>
            </a:xfrm>
            <a:prstGeom prst="rect">
              <a:avLst/>
            </a:prstGeom>
            <a:solidFill>
              <a:srgbClr val="f7c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1c1c1c"/>
                  </a:solidFill>
                  <a:latin typeface="Twinkl"/>
                </a:rPr>
                <a:t>quantity</a:t>
              </a:r>
              <a:endParaRPr b="0" lang="en-US" sz="36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181" name="Rectangle 17"/>
            <p:cNvSpPr/>
            <p:nvPr/>
          </p:nvSpPr>
          <p:spPr>
            <a:xfrm>
              <a:off x="3300480" y="1625760"/>
              <a:ext cx="2543040" cy="3843000"/>
            </a:xfrm>
            <a:prstGeom prst="rect">
              <a:avLst/>
            </a:prstGeom>
            <a:solidFill>
              <a:srgbClr val="a7d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1c1c1c"/>
                  </a:solidFill>
                  <a:latin typeface="Twinkl"/>
                </a:rPr>
                <a:t>quality</a:t>
              </a:r>
              <a:endParaRPr b="0" lang="en-US" sz="36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182" name="Rectangle 19"/>
            <p:cNvSpPr/>
            <p:nvPr/>
          </p:nvSpPr>
          <p:spPr>
            <a:xfrm>
              <a:off x="5843520" y="1625760"/>
              <a:ext cx="2544840" cy="3843000"/>
            </a:xfrm>
            <a:prstGeom prst="rect">
              <a:avLst/>
            </a:prstGeom>
            <a:solidFill>
              <a:srgbClr val="d5b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1c1c1c"/>
                  </a:solidFill>
                  <a:latin typeface="Twinkl"/>
                </a:rPr>
                <a:t>squabble</a:t>
              </a:r>
              <a:endParaRPr b="0" lang="en-US" sz="36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grpSp>
        <p:nvGrpSpPr>
          <p:cNvPr id="183" name="Group 25"/>
          <p:cNvGrpSpPr/>
          <p:nvPr/>
        </p:nvGrpSpPr>
        <p:grpSpPr>
          <a:xfrm>
            <a:off x="755640" y="1625760"/>
            <a:ext cx="7632720" cy="1135080"/>
            <a:chOff x="755640" y="1625760"/>
            <a:chExt cx="7632720" cy="1135080"/>
          </a:xfrm>
        </p:grpSpPr>
        <p:sp>
          <p:nvSpPr>
            <p:cNvPr id="184" name="Rectangle 26"/>
            <p:cNvSpPr/>
            <p:nvPr/>
          </p:nvSpPr>
          <p:spPr>
            <a:xfrm>
              <a:off x="755640" y="1625760"/>
              <a:ext cx="2544840" cy="1135080"/>
            </a:xfrm>
            <a:prstGeom prst="rect">
              <a:avLst/>
            </a:prstGeom>
            <a:solidFill>
              <a:srgbClr val="f7c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1c1c1c"/>
                  </a:solidFill>
                  <a:latin typeface="Twinkl"/>
                </a:rPr>
                <a:t>quantity</a:t>
              </a:r>
              <a:endParaRPr b="0" lang="en-US" sz="36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185" name="Rectangle 27"/>
            <p:cNvSpPr/>
            <p:nvPr/>
          </p:nvSpPr>
          <p:spPr>
            <a:xfrm>
              <a:off x="3300480" y="1625760"/>
              <a:ext cx="2543040" cy="1135080"/>
            </a:xfrm>
            <a:prstGeom prst="rect">
              <a:avLst/>
            </a:prstGeom>
            <a:solidFill>
              <a:srgbClr val="a7d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1c1c1c"/>
                  </a:solidFill>
                  <a:latin typeface="Twinkl"/>
                </a:rPr>
                <a:t>quality</a:t>
              </a:r>
              <a:endParaRPr b="0" lang="en-US" sz="36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186" name="Rectangle 28"/>
            <p:cNvSpPr/>
            <p:nvPr/>
          </p:nvSpPr>
          <p:spPr>
            <a:xfrm>
              <a:off x="5843520" y="1625760"/>
              <a:ext cx="2544840" cy="1135080"/>
            </a:xfrm>
            <a:prstGeom prst="rect">
              <a:avLst/>
            </a:prstGeom>
            <a:solidFill>
              <a:srgbClr val="d5b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1c1c1c"/>
                  </a:solidFill>
                  <a:latin typeface="Twinkl"/>
                </a:rPr>
                <a:t>squabble</a:t>
              </a:r>
              <a:endParaRPr b="0" lang="en-US" sz="36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sp>
        <p:nvSpPr>
          <p:cNvPr id="187" name="TextBox 29"/>
          <p:cNvSpPr/>
          <p:nvPr/>
        </p:nvSpPr>
        <p:spPr>
          <a:xfrm>
            <a:off x="755640" y="3191040"/>
            <a:ext cx="7632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These words all have the digraph </a:t>
            </a:r>
            <a:r>
              <a:rPr b="1" lang="en-GB" sz="2400" spc="-1" strike="noStrike">
                <a:solidFill>
                  <a:srgbClr val="1c1c1c"/>
                </a:solidFill>
                <a:latin typeface="Twinkl"/>
              </a:rPr>
              <a:t>/qu/.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These words all have the phoneme </a:t>
            </a:r>
            <a:r>
              <a:rPr b="1" lang="en-GB" sz="2400" spc="-1" strike="noStrike">
                <a:solidFill>
                  <a:srgbClr val="1c1c1c"/>
                </a:solidFill>
                <a:latin typeface="Twinkl"/>
              </a:rPr>
              <a:t>/o/ </a:t>
            </a: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in them.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The sound </a:t>
            </a:r>
            <a:r>
              <a:rPr b="1" lang="en-GB" sz="2400" spc="-1" strike="noStrike">
                <a:solidFill>
                  <a:srgbClr val="1c1c1c"/>
                </a:solidFill>
                <a:latin typeface="Twinkl"/>
              </a:rPr>
              <a:t>/o/</a:t>
            </a: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 is spelt </a:t>
            </a:r>
            <a:r>
              <a:rPr b="1" lang="en-GB" sz="2400" spc="-1" strike="noStrike">
                <a:solidFill>
                  <a:srgbClr val="1c1c1c"/>
                </a:solidFill>
                <a:latin typeface="Twinkl"/>
              </a:rPr>
              <a:t>‘a’</a:t>
            </a: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 after the </a:t>
            </a:r>
            <a:r>
              <a:rPr b="1" lang="en-GB" sz="2400" spc="-1" strike="noStrike">
                <a:solidFill>
                  <a:srgbClr val="1c1c1c"/>
                </a:solidFill>
                <a:latin typeface="Twinkl"/>
              </a:rPr>
              <a:t>‘qu’</a:t>
            </a: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.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750960" y="649440"/>
            <a:ext cx="7642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Say each of these words. </a:t>
            </a:r>
            <a:endParaRPr b="0" lang="en-US" sz="20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Think about where the /o/ sound comes in each word. </a:t>
            </a:r>
            <a:endParaRPr b="0" lang="en-US" sz="20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Trace the letter that makes the /o/ sound on your friend’s back. </a:t>
            </a:r>
            <a:endParaRPr b="0" lang="en-US" sz="20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Click on the finger to see if you are right.</a:t>
            </a:r>
            <a:endParaRPr b="0" lang="en-US" sz="20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189" name="Group 13"/>
          <p:cNvGrpSpPr/>
          <p:nvPr/>
        </p:nvGrpSpPr>
        <p:grpSpPr>
          <a:xfrm>
            <a:off x="7520040" y="4538520"/>
            <a:ext cx="868320" cy="1554480"/>
            <a:chOff x="7520040" y="4538520"/>
            <a:chExt cx="868320" cy="1554480"/>
          </a:xfrm>
        </p:grpSpPr>
        <p:sp>
          <p:nvSpPr>
            <p:cNvPr id="190" name="Rounded Rectangle 10"/>
            <p:cNvSpPr/>
            <p:nvPr/>
          </p:nvSpPr>
          <p:spPr>
            <a:xfrm>
              <a:off x="7520040" y="4538520"/>
              <a:ext cx="868320" cy="1554480"/>
            </a:xfrm>
            <a:custGeom>
              <a:avLst/>
              <a:gdLst>
                <a:gd name="textAreaLeft" fmla="*/ 42120 w 868320"/>
                <a:gd name="textAreaRight" fmla="*/ 826200 w 868320"/>
                <a:gd name="textAreaTop" fmla="*/ 42120 h 1554480"/>
                <a:gd name="textAreaBottom" fmla="*/ 1512360 h 1554480"/>
              </a:gdLst>
              <a:ahLst/>
              <a:rect l="textAreaLeft" t="textAreaTop" r="textAreaRight" b="textAreaBottom"/>
              <a:pathLst>
                <a:path w="21600" h="38662">
                  <a:moveTo>
                    <a:pt x="3600" y="0"/>
                  </a:moveTo>
                  <a:arcTo wR="3600" hR="3600" stAng="16200000" swAng="-5400000"/>
                  <a:lnTo>
                    <a:pt x="0" y="35062"/>
                  </a:lnTo>
                  <a:arcTo wR="3600" hR="3600" stAng="10800000" swAng="-5400000"/>
                  <a:lnTo>
                    <a:pt x="18000" y="386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4ebe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pic>
          <p:nvPicPr>
            <p:cNvPr id="191" name="Picture 1" descr=""/>
            <p:cNvPicPr/>
            <p:nvPr/>
          </p:nvPicPr>
          <p:blipFill>
            <a:blip r:embed="rId1"/>
            <a:stretch/>
          </p:blipFill>
          <p:spPr>
            <a:xfrm>
              <a:off x="7708680" y="4710960"/>
              <a:ext cx="49104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12"/>
            <p:cNvSpPr/>
            <p:nvPr/>
          </p:nvSpPr>
          <p:spPr>
            <a:xfrm>
              <a:off x="7520040" y="5715720"/>
              <a:ext cx="86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winkl"/>
                  <a:ea typeface="Sassoon Infant Rg"/>
                </a:rPr>
                <a:t>Answer</a:t>
              </a:r>
              <a:endParaRPr b="0" lang="en-US" sz="14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grpSp>
        <p:nvGrpSpPr>
          <p:cNvPr id="193" name="Group 11"/>
          <p:cNvGrpSpPr/>
          <p:nvPr/>
        </p:nvGrpSpPr>
        <p:grpSpPr>
          <a:xfrm>
            <a:off x="2284560" y="2532240"/>
            <a:ext cx="2813040" cy="1411200"/>
            <a:chOff x="2284560" y="2532240"/>
            <a:chExt cx="2813040" cy="1411200"/>
          </a:xfrm>
        </p:grpSpPr>
        <p:pic>
          <p:nvPicPr>
            <p:cNvPr id="194" name="Picture 3" descr=""/>
            <p:cNvPicPr/>
            <p:nvPr/>
          </p:nvPicPr>
          <p:blipFill>
            <a:blip r:embed="rId2"/>
            <a:stretch/>
          </p:blipFill>
          <p:spPr>
            <a:xfrm>
              <a:off x="2284560" y="2532240"/>
              <a:ext cx="1486440" cy="14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5"/>
            <p:cNvSpPr/>
            <p:nvPr/>
          </p:nvSpPr>
          <p:spPr>
            <a:xfrm>
              <a:off x="3848400" y="316080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c1c1c"/>
                  </a:solidFill>
                  <a:latin typeface="Twinkl"/>
                </a:rPr>
                <a:t>qu_rrel</a:t>
              </a:r>
              <a:endParaRPr b="0" lang="en-US" sz="24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grpSp>
        <p:nvGrpSpPr>
          <p:cNvPr id="196" name="Group 9"/>
          <p:cNvGrpSpPr/>
          <p:nvPr/>
        </p:nvGrpSpPr>
        <p:grpSpPr>
          <a:xfrm>
            <a:off x="3774960" y="4422600"/>
            <a:ext cx="2599560" cy="1509120"/>
            <a:chOff x="3774960" y="4422600"/>
            <a:chExt cx="2599560" cy="1509120"/>
          </a:xfrm>
        </p:grpSpPr>
        <p:pic>
          <p:nvPicPr>
            <p:cNvPr id="197" name="Picture 1" descr=""/>
            <p:cNvPicPr/>
            <p:nvPr/>
          </p:nvPicPr>
          <p:blipFill>
            <a:blip r:embed="rId3"/>
            <a:stretch/>
          </p:blipFill>
          <p:spPr>
            <a:xfrm>
              <a:off x="3774960" y="4422600"/>
              <a:ext cx="1841760" cy="142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Rectangle 22"/>
            <p:cNvSpPr/>
            <p:nvPr/>
          </p:nvSpPr>
          <p:spPr>
            <a:xfrm>
              <a:off x="5482080" y="547200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c1c1c"/>
                  </a:solidFill>
                  <a:latin typeface="Twinkl"/>
                </a:rPr>
                <a:t>qu_d</a:t>
              </a:r>
              <a:endParaRPr b="0" lang="en-US" sz="24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grpSp>
        <p:nvGrpSpPr>
          <p:cNvPr id="199" name="Group 7"/>
          <p:cNvGrpSpPr/>
          <p:nvPr/>
        </p:nvGrpSpPr>
        <p:grpSpPr>
          <a:xfrm>
            <a:off x="913680" y="3865680"/>
            <a:ext cx="1055520" cy="2157120"/>
            <a:chOff x="913680" y="3865680"/>
            <a:chExt cx="1055520" cy="2157120"/>
          </a:xfrm>
        </p:grpSpPr>
        <p:pic>
          <p:nvPicPr>
            <p:cNvPr id="200" name="Picture 2" descr=""/>
            <p:cNvPicPr/>
            <p:nvPr/>
          </p:nvPicPr>
          <p:blipFill>
            <a:blip r:embed="rId4"/>
            <a:stretch/>
          </p:blipFill>
          <p:spPr>
            <a:xfrm>
              <a:off x="1087920" y="4408560"/>
              <a:ext cx="881280" cy="16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23"/>
            <p:cNvSpPr/>
            <p:nvPr/>
          </p:nvSpPr>
          <p:spPr>
            <a:xfrm>
              <a:off x="913680" y="3865680"/>
              <a:ext cx="105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c1c1c"/>
                  </a:solidFill>
                  <a:latin typeface="Twinkl"/>
                </a:rPr>
                <a:t>w_tch</a:t>
              </a:r>
              <a:endParaRPr b="0" lang="en-US" sz="24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5654520" y="2484360"/>
            <a:ext cx="2365200" cy="2165400"/>
            <a:chOff x="5654520" y="2484360"/>
            <a:chExt cx="2365200" cy="2165400"/>
          </a:xfrm>
        </p:grpSpPr>
        <p:pic>
          <p:nvPicPr>
            <p:cNvPr id="203" name="Picture 4" descr=""/>
            <p:cNvPicPr/>
            <p:nvPr/>
          </p:nvPicPr>
          <p:blipFill>
            <a:blip r:embed="rId5"/>
            <a:stretch/>
          </p:blipFill>
          <p:spPr>
            <a:xfrm>
              <a:off x="5654520" y="2484360"/>
              <a:ext cx="143640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Rectangle 24"/>
            <p:cNvSpPr/>
            <p:nvPr/>
          </p:nvSpPr>
          <p:spPr>
            <a:xfrm>
              <a:off x="6834600" y="3397320"/>
              <a:ext cx="118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c1c1c"/>
                  </a:solidFill>
                  <a:latin typeface="Twinkl"/>
                </a:rPr>
                <a:t>sq_ash</a:t>
              </a:r>
              <a:endParaRPr b="0" lang="en-US" sz="24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sp>
        <p:nvSpPr>
          <p:cNvPr id="205" name="Rectangle 15" hidden="1"/>
          <p:cNvSpPr/>
          <p:nvPr/>
        </p:nvSpPr>
        <p:spPr>
          <a:xfrm>
            <a:off x="-291960" y="-165240"/>
            <a:ext cx="9727920" cy="7188480"/>
          </a:xfrm>
          <a:prstGeom prst="rect">
            <a:avLst/>
          </a:prstGeom>
          <a:solidFill>
            <a:srgbClr val="ffffff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206" name="Picture 16" descr=""/>
          <p:cNvPicPr/>
          <p:nvPr/>
        </p:nvPicPr>
        <p:blipFill>
          <a:blip r:embed="rId6"/>
          <a:srcRect l="25560" t="30459" r="23367" b="41966"/>
          <a:stretch/>
        </p:blipFill>
        <p:spPr>
          <a:xfrm>
            <a:off x="2793960" y="2398680"/>
            <a:ext cx="3556080" cy="2060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1" descr=""/>
          <p:cNvPicPr/>
          <p:nvPr/>
        </p:nvPicPr>
        <p:blipFill>
          <a:blip r:embed="rId7"/>
          <a:stretch/>
        </p:blipFill>
        <p:spPr>
          <a:xfrm>
            <a:off x="2700360" y="4140360"/>
            <a:ext cx="121932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4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03704E-006 L 0.00625 -0.00186 C 0.00711 -0.00232 0.00798 -0.00232 0.00902 -0.00279 C 0.01527 -0.00649 0.00573 -0.00325 0.01458 -0.00556 C 0.02291 -0.01135 0.0125 -0.00417 0.01944 -0.00927 C 0.02031 -0.00996 0.02118 -0.01066 0.02222 -0.01112 C 0.02291 -0.01181 0.02343 -0.01251 0.0243 -0.01297 C 0.02517 -0.01367 0.02604 -0.01413 0.02708 -0.01482 C 0.02847 -0.01598 0.03125 -0.01853 0.03125 -0.01853 C 0.03159 -0.01945 0.03194 -0.02061 0.03264 -0.0213 C 0.03316 -0.022 0.03402 -0.022 0.03472 -0.02223 C 0.03541 -0.02292 0.03611 -0.02339 0.0368 -0.02408 C 0.0401 -0.02802 0.03715 -0.02617 0.04097 -0.02779 C 0.04166 -0.02871 0.04218 -0.02987 0.04305 -0.03056 C 0.04357 -0.03126 0.04444 -0.03126 0.04514 -0.03149 C 0.046 -0.03218 0.04705 -0.03265 0.04791 -0.03334 C 0.04861 -0.03427 0.04913 -0.03542 0.05 -0.03612 C 0.05052 -0.03681 0.05139 -0.03658 0.05208 -0.03704 C 0.05347 -0.0382 0.05486 -0.03959 0.05625 -0.04075 C 0.05694 -0.04144 0.05764 -0.04191 0.05833 -0.0426 C 0.05902 -0.04353 0.05955 -0.04468 0.06041 -0.04538 C 0.06336 -0.04885 0.0618 -0.04561 0.06458 -0.05001 C 0.0651 -0.05093 0.06527 -0.05209 0.06597 -0.05279 C 0.06718 -0.05487 0.06892 -0.05626 0.07014 -0.05834 L 0.07291 -0.0639 C 0.07326 -0.06482 0.07378 -0.06575 0.0743 -0.06667 C 0.075 -0.06899 0.07569 -0.0713 0.07708 -0.07316 C 0.07899 -0.0764 0.07916 -0.07547 0.08055 -0.07871 C 0.08073 -0.07964 0.08073 -0.08079 0.08125 -0.08149 C 0.08229 -0.08357 0.08541 -0.08704 0.08541 -0.08704 C 0.08715 -0.09422 0.08455 -0.08589 0.08819 -0.09167 C 0.09201 -0.09816 0.08489 -0.09121 0.09097 -0.0963 C 0.09427 -0.10325 0.08993 -0.09492 0.09444 -0.10186 C 0.09583 -0.10441 0.09583 -0.10556 0.09722 -0.10834 C 0.09757 -0.1095 0.09826 -0.11019 0.09861 -0.11112 C 0.09913 -0.11297 0.09948 -0.11482 0.1 -0.11667 L 0.10139 -0.12223 C 0.10156 -0.12316 0.10156 -0.12431 0.10208 -0.12501 C 0.10468 -0.13056 0.10243 -0.12524 0.10416 -0.13056 C 0.10711 -0.14029 0.10364 -0.12732 0.10694 -0.13982 L 0.10764 -0.1426 C 0.10781 -0.14353 0.10798 -0.14468 0.10833 -0.14538 C 0.10972 -0.14931 0.11024 -0.15024 0.11111 -0.15464 C 0.11128 -0.15603 0.11198 -0.15996 0.1125 -0.16112 C 0.11284 -0.16228 0.11354 -0.16297 0.11389 -0.1639 C 0.11441 -0.16575 0.11475 -0.1676 0.11527 -0.16945 L 0.11666 -0.17501 C 0.11684 -0.17593 0.11684 -0.17709 0.11736 -0.17779 C 0.11771 -0.17871 0.11823 -0.17964 0.11875 -0.18056 C 0.11892 -0.18149 0.11892 -0.18265 0.11944 -0.18334 C 0.12014 -0.18542 0.12135 -0.18704 0.12222 -0.1889 C 0.12396 -0.19399 0.12274 -0.19167 0.12569 -0.19538 C 0.12691 -0.20047 0.12586 -0.19746 0.12916 -0.20371 C 0.13038 -0.20649 0.13055 -0.20718 0.13264 -0.20927 C 0.13316 -0.21019 0.13402 -0.21066 0.13472 -0.21112 C 0.13507 -0.21204 0.13541 -0.2132 0.13611 -0.2139 C 0.13732 -0.21552 0.13889 -0.21644 0.14027 -0.2176 L 0.14444 -0.2213 L 0.14652 -0.22316 C 0.14722 -0.22385 0.14791 -0.22431 0.14861 -0.22501 C 0.15173 -0.22941 0.14982 -0.22709 0.15486 -0.23149 L 0.15694 -0.23334 C 0.15764 -0.23404 0.15816 -0.23496 0.15902 -0.23519 C 0.16406 -0.23751 0.16163 -0.23658 0.16597 -0.23797 C 0.16996 -0.24167 0.16632 -0.23913 0.1743 -0.24075 C 0.175 -0.24098 0.17552 -0.24144 0.17639 -0.24167 C 0.17725 -0.24214 0.17812 -0.24237 0.17916 -0.2426 C 0.17986 -0.24306 0.18038 -0.24353 0.18125 -0.24353 C 0.18298 -0.24399 0.18489 -0.24422 0.1868 -0.24445 C 0.19375 -0.24422 0.20069 -0.24445 0.20764 -0.24353 C 0.20902 -0.24353 0.21041 -0.24237 0.2118 -0.24167 C 0.22205 -0.23728 0.20277 -0.24584 0.21666 -0.2389 C 0.21753 -0.23867 0.2184 -0.23843 0.21944 -0.23797 C 0.22534 -0.23288 0.21771 -0.23913 0.22361 -0.23519 C 0.2243 -0.23473 0.22482 -0.2338 0.22569 -0.23334 C 0.22691 -0.23265 0.22847 -0.23218 0.22986 -0.23149 L 0.23402 -0.22964 C 0.23472 -0.22941 0.23541 -0.22941 0.23611 -0.22871 C 0.23889 -0.22617 0.23732 -0.22732 0.24097 -0.22593 C 0.24652 -0.21853 0.23923 -0.22732 0.24583 -0.22223 C 0.25295 -0.21691 0.2434 -0.22154 0.25 -0.21853 C 0.25139 -0.21667 0.25295 -0.21529 0.25416 -0.21297 C 0.2559 -0.20927 0.25486 -0.21089 0.25764 -0.20834 C 0.25798 -0.20742 0.25833 -0.20649 0.25902 -0.20556 C 0.26302 -0.20024 0.2592 -0.20788 0.26319 -0.20093 C 0.26892 -0.19098 0.26319 -0.19908 0.26805 -0.1926 C 0.26718 -0.19561 0.26649 -0.19931 0.26458 -0.20093 C 0.26389 -0.20163 0.26302 -0.20209 0.2625 -0.20279 C 0.26163 -0.20394 0.26111 -0.20556 0.26041 -0.20649 C 0.25972 -0.20742 0.25885 -0.20765 0.25833 -0.20834 C 0.25677 -0.21019 0.2559 -0.2132 0.25416 -0.2139 C 0.25347 -0.21436 0.2526 -0.21436 0.25208 -0.21482 C 0.25052 -0.21598 0.24948 -0.21783 0.24791 -0.21853 L 0.24375 -0.22038 C 0.24305 -0.22084 0.24218 -0.22084 0.24166 -0.2213 C 0.24097 -0.222 0.24027 -0.22292 0.23958 -0.22316 C 0.23784 -0.22385 0.23628 -0.22385 0.23472 -0.22408 C 0.22864 -0.22941 0.23628 -0.22316 0.23055 -0.22686 C 0.22968 -0.22755 0.22916 -0.22825 0.22847 -0.22871 C 0.22777 -0.22917 0.22691 -0.22941 0.22639 -0.22964 C 0.22552 -0.23033 0.225 -0.23126 0.2243 -0.23149 C 0.22291 -0.23242 0.22014 -0.23334 0.22014 -0.23334 C 0.21909 -0.23427 0.2184 -0.23566 0.21736 -0.23612 C 0.21614 -0.23681 0.21493 -0.23681 0.21389 -0.23704 C 0.21284 -0.23751 0.21198 -0.23774 0.21111 -0.23797 C 0.21024 -0.23843 0.20972 -0.2389 0.20902 -0.2389 C 0.20764 -0.23936 0.20607 -0.23959 0.20486 -0.23982 C 0.2033 -0.24052 0.20208 -0.24144 0.20069 -0.24167 L 0.19722 -0.2426 C 0.18767 -0.24237 0.17812 -0.2426 0.16875 -0.24167 C 0.16458 -0.24144 0.16527 -0.24005 0.1625 -0.23797 C 0.1618 -0.23774 0.16093 -0.23774 0.16041 -0.23704 C 0.15885 -0.23612 0.15764 -0.23473 0.15625 -0.23334 C 0.15555 -0.23288 0.15468 -0.23242 0.15416 -0.23149 C 0.1493 -0.22524 0.15156 -0.22755 0.14791 -0.22408 C 0.14739 -0.22316 0.14705 -0.22223 0.14652 -0.2213 C 0.14583 -0.22084 0.14496 -0.22107 0.14444 -0.22038 C 0.14357 -0.21968 0.14305 -0.21853 0.14236 -0.2176 C 0.14166 -0.21691 0.1408 -0.21667 0.14027 -0.21575 C 0.13646 -0.21089 0.13993 -0.21297 0.13611 -0.21112 C 0.13229 -0.20371 0.13715 -0.21274 0.13264 -0.20649 C 0.13194 -0.20579 0.13177 -0.20464 0.13125 -0.20371 C 0.13055 -0.20279 0.12968 -0.20209 0.12916 -0.20093 C 0.12812 -0.19931 0.12743 -0.197 0.12639 -0.19538 C 0.12309 -0.19121 0.12482 -0.19376 0.12152 -0.18704 C 0.121 -0.18612 0.12031 -0.18542 0.12014 -0.18427 C 0.11753 -0.17431 0.12152 -0.18959 0.11805 -0.17871 C 0.11736 -0.17709 0.11701 -0.17501 0.11666 -0.17316 C 0.11632 -0.17223 0.11597 -0.17154 0.11597 -0.17038 C 0.11562 -0.16899 0.11545 -0.16737 0.11527 -0.16575 C 0.11475 -0.1639 0.11423 -0.16228 0.11389 -0.16019 C 0.11163 -0.14862 0.11441 -0.1632 0.1125 -0.15371 C 0.11215 -0.15255 0.11198 -0.1514 0.1118 -0.15001 C 0.11128 -0.14816 0.11076 -0.14654 0.11041 -0.14445 C 0.10816 -0.13288 0.11093 -0.14746 0.10902 -0.13797 C 0.10711 -0.12987 0.1092 -0.1382 0.10764 -0.13149 C 0.10607 -0.11413 0.10764 -0.12964 0.10625 -0.11945 C 0.10486 -0.11135 0.10607 -0.11667 0.10486 -0.11112 C 0.10503 -0.10695 0.10521 -0.10255 0.10555 -0.09816 C 0.10642 -0.08635 0.1059 -0.10186 0.10764 -0.08797 C 0.10781 -0.08612 0.10798 -0.08427 0.10833 -0.08242 L 0.11041 -0.07408 C 0.11059 -0.07316 0.11076 -0.07246 0.11111 -0.0713 C 0.11128 -0.07015 0.11146 -0.06899 0.1118 -0.0676 C 0.11232 -0.06436 0.11232 -0.06251 0.11319 -0.05927 L 0.11527 -0.05093 C 0.11545 -0.05001 0.11562 -0.04908 0.11597 -0.04816 C 0.11632 -0.047 0.11684 -0.04584 0.11736 -0.04445 C 0.11753 -0.04329 0.11753 -0.04214 0.11805 -0.04075 C 0.11823 -0.03982 0.11892 -0.03913 0.11944 -0.03797 C 0.11961 -0.03728 0.11979 -0.03612 0.12014 -0.03519 C 0.12048 -0.03427 0.121 -0.03357 0.12152 -0.03242 C 0.1217 -0.03172 0.1217 -0.03056 0.12222 -0.02964 C 0.12291 -0.02779 0.12396 -0.02593 0.125 -0.02408 C 0.12534 -0.02316 0.12569 -0.022 0.12639 -0.0213 L 0.12847 -0.01945 C 0.12882 -0.01853 0.12916 -0.0176 0.12986 -0.01667 C 0.13038 -0.01621 0.13125 -0.01621 0.13194 -0.01575 C 0.13264 -0.01529 0.13333 -0.01482 0.13402 -0.0139 C 0.13472 -0.0132 0.13524 -0.01204 0.13611 -0.01112 C 0.13663 -0.01066 0.1375 -0.01066 0.13819 -0.01019 C 0.13889 -0.00973 0.13941 -0.00904 0.14027 -0.00834 C 0.1408 -0.00811 0.14166 -0.00788 0.14236 -0.00742 C 0.14305 -0.00695 0.14357 -0.00603 0.14444 -0.00556 C 0.14566 -0.00487 0.14722 -0.00441 0.14861 -0.00371 L 0.15069 -0.00279 C 0.15139 -0.00255 0.15191 -0.00209 0.15277 -0.00186 C 0.15451 -0.00163 0.15642 -0.0014 0.15833 -0.00093 C 0.15937 -0.0007 0.16059 -0.00047 0.1618 -7.03704E-006 C 0.17014 0.00161 0.16441 -0.00024 0.17014 0.00184 C 0.17569 0.00138 0.18125 0.00138 0.1868 0.00092 C 0.1875 0.00069 0.18802 0.00022 0.18889 -7.03704E-006 C 0.18993 -0.00047 0.19114 -0.0007 0.19236 -0.00093 C 0.19375 -0.00163 0.19652 -0.00279 0.19652 -0.00279 C 0.19739 -0.00371 0.19826 -0.0051 0.1993 -0.00556 C 0.20052 -0.00649 0.20208 -0.00649 0.20347 -0.00742 C 0.20937 -0.01274 0.20173 -0.00649 0.20764 -0.01019 C 0.20833 -0.01089 0.20885 -0.01158 0.20972 -0.01204 C 0.21024 -0.01251 0.21111 -0.01251 0.2118 -0.01297 C 0.21319 -0.01413 0.21597 -0.01667 0.21597 -0.01667 C 0.2184 -0.02177 0.21597 -0.0176 0.21944 -0.0213 C 0.22274 -0.02524 0.21979 -0.02339 0.22361 -0.02501 C 0.22673 -0.03149 0.22465 -0.02987 0.22847 -0.03149 C 0.22916 -0.03242 0.22968 -0.03357 0.23055 -0.03427 C 0.23177 -0.03566 0.2335 -0.03658 0.23472 -0.03797 C 0.23541 -0.0389 0.23593 -0.04005 0.2368 -0.04075 C 0.23802 -0.04214 0.23975 -0.04306 0.24097 -0.04445 C 0.24705 -0.05279 0.23958 -0.04237 0.24444 -0.05001 C 0.24496 -0.05117 0.24583 -0.05186 0.24652 -0.05279 C 0.24739 -0.05464 0.24861 -0.05626 0.2493 -0.05834 L 0.25208 -0.06945 C 0.25225 -0.07038 0.25225 -0.07154 0.25277 -0.07223 L 0.25416 -0.07501 C 0.25573 -0.08566 0.25382 -0.07269 0.25555 -0.08704 C 0.25573 -0.08867 0.2559 -0.09029 0.25625 -0.09167 C 0.25659 -0.09607 0.25694 -0.10047 0.25764 -0.10464 C 0.2585 -0.11158 0.2592 -0.11459 0.25972 -0.1213 C 0.25989 -0.1264 0.26007 -0.13126 0.26041 -0.13612 C 0.26059 -0.13936 0.2618 -0.14654 0.2625 -0.14908 C 0.26267 -0.15001 0.26302 -0.15093 0.26319 -0.15186 C 0.26336 -0.15371 0.26354 -0.15556 0.26389 -0.15742 C 0.26406 -0.15996 0.26423 -0.16251 0.26458 -0.16482 C 0.26562 -0.17987 0.26441 -0.17246 0.26597 -0.18056 C 0.26614 -0.18427 0.26649 -0.18797 0.26666 -0.19167 C 0.26701 -0.20973 0.26545 -0.22524 0.26805 -0.24167 C 0.26823 -0.24306 0.2684 -0.24422 0.26875 -0.24538 C 0.26979 -0.25209 0.26875 -0.24792 0.27014 -0.25279 C 0.27135 -0.24792 0.27083 -0.25093 0.27014 -0.2426 C 0.26979 -0.24052 0.26961 -0.23843 0.26944 -0.23612 C 0.26927 -0.23519 0.26875 -0.2345 0.26875 -0.23334 C 0.2684 -0.23172 0.26823 -0.22987 0.26805 -0.22779 C 0.26684 -0.21644 0.26805 -0.222 0.26666 -0.21575 C 0.26475 -0.18311 0.26736 -0.23242 0.26527 -0.1639 C 0.2651 -0.16274 0.26458 -0.16158 0.26458 -0.16019 C 0.26389 -0.15533 0.26336 -0.15047 0.26319 -0.14538 C 0.26232 -0.13195 0.26302 -0.13751 0.2618 -0.12871 C 0.26146 -0.12362 0.26093 -0.10904 0.26041 -0.10279 C 0.26024 -0.1014 0.25972 -0.09978 0.25972 -0.09816 C 0.2585 -0.08751 0.25972 -0.09306 0.25833 -0.08704 C 0.25798 -0.08473 0.25764 -0.08218 0.25764 -0.07964 C 0.25642 -0.05973 0.25833 -0.06806 0.25625 -0.05927 C 0.25642 -0.0507 0.25625 -0.04214 0.25694 -0.03334 C 0.25729 -0.02755 0.25816 -0.02917 0.25972 -0.02501 C 0.25989 -0.02431 0.25989 -0.02316 0.26041 -0.02223 C 0.26111 -0.02038 0.26215 -0.01853 0.26319 -0.01667 L 0.26458 -0.0139 C 0.26493 -0.01297 0.26527 -0.01204 0.26597 -0.01112 C 0.26666 -0.01019 0.26718 -0.00927 0.26805 -0.00834 C 0.27014 -0.00603 0.27118 -0.00603 0.2743 -0.00464 C 0.27656 -0.00371 0.27882 -0.00255 0.28125 -0.00186 C 0.28281 -0.00163 0.28437 -0.0014 0.28611 -0.00093 C 0.29323 -0.0014 0.30034 -0.00117 0.30764 -0.00186 C 0.30902 -0.00209 0.31041 -0.00325 0.3118 -0.00371 C 0.3184 -0.00672 0.30798 -0.00209 0.31666 -0.00649 C 0.31788 -0.00742 0.31944 -0.00788 0.32083 -0.00834 C 0.32152 -0.0088 0.32222 -0.0088 0.32291 -0.00927 C 0.32882 -0.01459 0.32118 -0.00834 0.32708 -0.01204 C 0.33246 -0.01575 0.32586 -0.01251 0.33125 -0.01482 C 0.33194 -0.01575 0.33246 -0.01691 0.33333 -0.0176 C 0.33455 -0.01899 0.3375 -0.0213 0.3375 -0.0213 C 0.33993 -0.0264 0.33819 -0.02339 0.34305 -0.02964 C 0.34375 -0.03056 0.34444 -0.03149 0.34514 -0.03242 C 0.34705 -0.03635 0.34583 -0.0345 0.34861 -0.03797 C 0.34913 -0.04029 0.3493 -0.04191 0.35069 -0.04353 C 0.35069 -0.04376 0.35104 -0.04353 0.35139 -0.04353 L 0.35208 -0.04445 E">
                                      <p:cBhvr>
                                        <p:cTn id="60" dur="4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5"/>
          <p:cNvGrpSpPr/>
          <p:nvPr/>
        </p:nvGrpSpPr>
        <p:grpSpPr>
          <a:xfrm>
            <a:off x="979560" y="649440"/>
            <a:ext cx="5148360" cy="1615320"/>
            <a:chOff x="979560" y="649440"/>
            <a:chExt cx="5148360" cy="1615320"/>
          </a:xfrm>
        </p:grpSpPr>
        <p:sp>
          <p:nvSpPr>
            <p:cNvPr id="209" name="Rounded Rectangular Callout 4"/>
            <p:cNvSpPr/>
            <p:nvPr/>
          </p:nvSpPr>
          <p:spPr>
            <a:xfrm>
              <a:off x="979560" y="649440"/>
              <a:ext cx="5148360" cy="1458720"/>
            </a:xfrm>
            <a:prstGeom prst="wedgeRoundRectCallout">
              <a:avLst>
                <a:gd name="adj1" fmla="val 61597"/>
                <a:gd name="adj2" fmla="val 1818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79ad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210" name="TextBox 1"/>
            <p:cNvSpPr/>
            <p:nvPr/>
          </p:nvSpPr>
          <p:spPr>
            <a:xfrm>
              <a:off x="1741320" y="739440"/>
              <a:ext cx="3624840" cy="15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Use this rule to help you to decide if these missing letters are spelt with ‘o’ or ‘a’. </a:t>
              </a:r>
              <a:endParaRPr b="0" lang="en-US" sz="1400" spc="-1" strike="noStrike">
                <a:solidFill>
                  <a:srgbClr val="1c1c1c"/>
                </a:solidFill>
                <a:latin typeface="Twinkl"/>
              </a:endParaRPr>
            </a:p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‘</a:t>
              </a:r>
              <a:r>
                <a:rPr b="1" lang="en-GB" sz="14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a’ is the most common spelling for the /o/ sound after ‘w’ and ‘qu’.</a:t>
              </a:r>
              <a:endParaRPr b="0" lang="en-US" sz="1400" spc="-1" strike="noStrike">
                <a:solidFill>
                  <a:srgbClr val="1c1c1c"/>
                </a:solidFill>
                <a:latin typeface="Twinkl"/>
              </a:endParaRPr>
            </a:p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Click on each word to see the answer.</a:t>
              </a:r>
              <a:endParaRPr b="0" lang="en-US" sz="14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sp>
        <p:nvSpPr>
          <p:cNvPr id="211" name="Rectangle 41" hidden="1"/>
          <p:cNvSpPr/>
          <p:nvPr/>
        </p:nvSpPr>
        <p:spPr>
          <a:xfrm>
            <a:off x="-291960" y="-165240"/>
            <a:ext cx="9727920" cy="7188480"/>
          </a:xfrm>
          <a:prstGeom prst="rect">
            <a:avLst/>
          </a:prstGeom>
          <a:solidFill>
            <a:srgbClr val="ffffff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212" name="top1"/>
          <p:cNvGrpSpPr/>
          <p:nvPr/>
        </p:nvGrpSpPr>
        <p:grpSpPr>
          <a:xfrm>
            <a:off x="5635800" y="4248000"/>
            <a:ext cx="1844640" cy="1871640"/>
            <a:chOff x="5635800" y="4248000"/>
            <a:chExt cx="1844640" cy="1871640"/>
          </a:xfrm>
        </p:grpSpPr>
        <p:pic>
          <p:nvPicPr>
            <p:cNvPr id="213" name="Picture 20" descr=""/>
            <p:cNvPicPr/>
            <p:nvPr/>
          </p:nvPicPr>
          <p:blipFill>
            <a:blip r:embed="rId1"/>
            <a:srcRect l="25624" t="-10729" r="28175" b="42771"/>
            <a:stretch/>
          </p:blipFill>
          <p:spPr>
            <a:xfrm>
              <a:off x="5635800" y="4248000"/>
              <a:ext cx="184464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Box 37"/>
            <p:cNvSpPr/>
            <p:nvPr/>
          </p:nvSpPr>
          <p:spPr>
            <a:xfrm>
              <a:off x="5637240" y="4248000"/>
              <a:ext cx="1842480" cy="368280"/>
            </a:xfrm>
            <a:prstGeom prst="rect">
              <a:avLst/>
            </a:prstGeom>
            <a:solidFill>
              <a:srgbClr val="d5b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t_p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pic>
        <p:nvPicPr>
          <p:cNvPr id="215" name="Picture 6" descr=""/>
          <p:cNvPicPr/>
          <p:nvPr/>
        </p:nvPicPr>
        <p:blipFill>
          <a:blip r:embed="rId2"/>
          <a:stretch/>
        </p:blipFill>
        <p:spPr>
          <a:xfrm>
            <a:off x="6888240" y="719280"/>
            <a:ext cx="1444680" cy="1438200"/>
          </a:xfrm>
          <a:prstGeom prst="rect">
            <a:avLst/>
          </a:prstGeom>
          <a:ln w="0">
            <a:noFill/>
          </a:ln>
        </p:spPr>
      </p:pic>
      <p:grpSp>
        <p:nvGrpSpPr>
          <p:cNvPr id="216" name="wash1"/>
          <p:cNvGrpSpPr/>
          <p:nvPr/>
        </p:nvGrpSpPr>
        <p:grpSpPr>
          <a:xfrm>
            <a:off x="1616040" y="2260440"/>
            <a:ext cx="1844640" cy="1845000"/>
            <a:chOff x="1616040" y="2260440"/>
            <a:chExt cx="1844640" cy="1845000"/>
          </a:xfrm>
        </p:grpSpPr>
        <p:pic>
          <p:nvPicPr>
            <p:cNvPr id="217" name="Group 21" descr=""/>
            <p:cNvPicPr/>
            <p:nvPr/>
          </p:nvPicPr>
          <p:blipFill>
            <a:blip r:embed="rId3"/>
            <a:stretch/>
          </p:blipFill>
          <p:spPr>
            <a:xfrm>
              <a:off x="1616040" y="2260440"/>
              <a:ext cx="1844640" cy="184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8" descr=""/>
            <p:cNvPicPr/>
            <p:nvPr/>
          </p:nvPicPr>
          <p:blipFill>
            <a:blip r:embed="rId4"/>
            <a:stretch/>
          </p:blipFill>
          <p:spPr>
            <a:xfrm>
              <a:off x="1864080" y="2843640"/>
              <a:ext cx="1347120" cy="99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squad1"/>
          <p:cNvGrpSpPr/>
          <p:nvPr/>
        </p:nvGrpSpPr>
        <p:grpSpPr>
          <a:xfrm>
            <a:off x="3625920" y="2260440"/>
            <a:ext cx="1844640" cy="1845000"/>
            <a:chOff x="3625920" y="2260440"/>
            <a:chExt cx="1844640" cy="1845000"/>
          </a:xfrm>
        </p:grpSpPr>
        <p:pic>
          <p:nvPicPr>
            <p:cNvPr id="220" name="Group 8" descr=""/>
            <p:cNvPicPr/>
            <p:nvPr/>
          </p:nvPicPr>
          <p:blipFill>
            <a:blip r:embed="rId5"/>
            <a:stretch/>
          </p:blipFill>
          <p:spPr>
            <a:xfrm>
              <a:off x="3625920" y="2260440"/>
              <a:ext cx="1844640" cy="184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9" descr=""/>
            <p:cNvPicPr/>
            <p:nvPr/>
          </p:nvPicPr>
          <p:blipFill>
            <a:blip r:embed="rId6"/>
            <a:stretch/>
          </p:blipFill>
          <p:spPr>
            <a:xfrm>
              <a:off x="3778560" y="2745360"/>
              <a:ext cx="1540440" cy="119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frog1"/>
          <p:cNvGrpSpPr/>
          <p:nvPr/>
        </p:nvGrpSpPr>
        <p:grpSpPr>
          <a:xfrm>
            <a:off x="5637240" y="2260440"/>
            <a:ext cx="1843200" cy="1845000"/>
            <a:chOff x="5637240" y="2260440"/>
            <a:chExt cx="1843200" cy="1845000"/>
          </a:xfrm>
        </p:grpSpPr>
        <p:pic>
          <p:nvPicPr>
            <p:cNvPr id="223" name="Group 15" descr=""/>
            <p:cNvPicPr/>
            <p:nvPr/>
          </p:nvPicPr>
          <p:blipFill>
            <a:blip r:embed="rId7"/>
            <a:stretch/>
          </p:blipFill>
          <p:spPr>
            <a:xfrm>
              <a:off x="5637240" y="2260440"/>
              <a:ext cx="1843200" cy="184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12" descr=""/>
            <p:cNvPicPr/>
            <p:nvPr/>
          </p:nvPicPr>
          <p:blipFill>
            <a:blip r:embed="rId8"/>
            <a:stretch/>
          </p:blipFill>
          <p:spPr>
            <a:xfrm>
              <a:off x="5903640" y="2794680"/>
              <a:ext cx="1309320" cy="112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waddle1"/>
          <p:cNvGrpSpPr/>
          <p:nvPr/>
        </p:nvGrpSpPr>
        <p:grpSpPr>
          <a:xfrm>
            <a:off x="1616040" y="4248000"/>
            <a:ext cx="1844640" cy="1845000"/>
            <a:chOff x="1616040" y="4248000"/>
            <a:chExt cx="1844640" cy="1845000"/>
          </a:xfrm>
        </p:grpSpPr>
        <p:pic>
          <p:nvPicPr>
            <p:cNvPr id="226" name="Group 21" descr=""/>
            <p:cNvPicPr/>
            <p:nvPr/>
          </p:nvPicPr>
          <p:blipFill>
            <a:blip r:embed="rId9"/>
            <a:stretch/>
          </p:blipFill>
          <p:spPr>
            <a:xfrm>
              <a:off x="1616040" y="4248000"/>
              <a:ext cx="1844640" cy="184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14" descr=""/>
            <p:cNvPicPr/>
            <p:nvPr/>
          </p:nvPicPr>
          <p:blipFill>
            <a:blip r:embed="rId10"/>
            <a:stretch/>
          </p:blipFill>
          <p:spPr>
            <a:xfrm>
              <a:off x="2244240" y="4772880"/>
              <a:ext cx="587160" cy="123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boxer1"/>
          <p:cNvGrpSpPr/>
          <p:nvPr/>
        </p:nvGrpSpPr>
        <p:grpSpPr>
          <a:xfrm>
            <a:off x="3625920" y="4248000"/>
            <a:ext cx="1844640" cy="1845000"/>
            <a:chOff x="3625920" y="4248000"/>
            <a:chExt cx="1844640" cy="1845000"/>
          </a:xfrm>
        </p:grpSpPr>
        <p:pic>
          <p:nvPicPr>
            <p:cNvPr id="229" name="Group 8" descr=""/>
            <p:cNvPicPr/>
            <p:nvPr/>
          </p:nvPicPr>
          <p:blipFill>
            <a:blip r:embed="rId11"/>
            <a:stretch/>
          </p:blipFill>
          <p:spPr>
            <a:xfrm>
              <a:off x="3625920" y="4248000"/>
              <a:ext cx="1844640" cy="184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16" descr=""/>
            <p:cNvPicPr/>
            <p:nvPr/>
          </p:nvPicPr>
          <p:blipFill>
            <a:blip r:embed="rId12"/>
            <a:srcRect l="9511" t="0" r="0" b="0"/>
            <a:stretch/>
          </p:blipFill>
          <p:spPr>
            <a:xfrm>
              <a:off x="3639240" y="4761000"/>
              <a:ext cx="1730520" cy="133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group"/>
          <p:cNvGrpSpPr/>
          <p:nvPr/>
        </p:nvGrpSpPr>
        <p:grpSpPr>
          <a:xfrm>
            <a:off x="5635800" y="4248000"/>
            <a:ext cx="1844640" cy="1871640"/>
            <a:chOff x="5635800" y="4248000"/>
            <a:chExt cx="1844640" cy="1871640"/>
          </a:xfrm>
        </p:grpSpPr>
        <p:pic>
          <p:nvPicPr>
            <p:cNvPr id="232" name="Picture 105" descr=""/>
            <p:cNvPicPr/>
            <p:nvPr/>
          </p:nvPicPr>
          <p:blipFill>
            <a:blip r:embed="rId13"/>
            <a:srcRect l="25786" t="-10729" r="28175" b="42771"/>
            <a:stretch/>
          </p:blipFill>
          <p:spPr>
            <a:xfrm>
              <a:off x="5640480" y="4248000"/>
              <a:ext cx="183996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Box 37"/>
            <p:cNvSpPr/>
            <p:nvPr/>
          </p:nvSpPr>
          <p:spPr>
            <a:xfrm>
              <a:off x="5635800" y="4248000"/>
              <a:ext cx="1843920" cy="368280"/>
            </a:xfrm>
            <a:prstGeom prst="rect">
              <a:avLst/>
            </a:prstGeom>
            <a:solidFill>
              <a:srgbClr val="d5b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top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grpSp>
        <p:nvGrpSpPr>
          <p:cNvPr id="234" name="Group 107"/>
          <p:cNvGrpSpPr/>
          <p:nvPr/>
        </p:nvGrpSpPr>
        <p:grpSpPr>
          <a:xfrm>
            <a:off x="1614600" y="2260440"/>
            <a:ext cx="1844640" cy="1845000"/>
            <a:chOff x="1614600" y="2260440"/>
            <a:chExt cx="1844640" cy="1845000"/>
          </a:xfrm>
        </p:grpSpPr>
        <p:pic>
          <p:nvPicPr>
            <p:cNvPr id="235" name="Group 21" descr=""/>
            <p:cNvPicPr/>
            <p:nvPr/>
          </p:nvPicPr>
          <p:blipFill>
            <a:blip r:embed="rId14"/>
            <a:stretch/>
          </p:blipFill>
          <p:spPr>
            <a:xfrm>
              <a:off x="1614600" y="2260440"/>
              <a:ext cx="1844640" cy="184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109" descr=""/>
            <p:cNvPicPr/>
            <p:nvPr/>
          </p:nvPicPr>
          <p:blipFill>
            <a:blip r:embed="rId15"/>
            <a:stretch/>
          </p:blipFill>
          <p:spPr>
            <a:xfrm>
              <a:off x="1861920" y="2843640"/>
              <a:ext cx="1351800" cy="99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Group 112"/>
          <p:cNvGrpSpPr/>
          <p:nvPr/>
        </p:nvGrpSpPr>
        <p:grpSpPr>
          <a:xfrm>
            <a:off x="3624120" y="2260440"/>
            <a:ext cx="1844640" cy="1845000"/>
            <a:chOff x="3624120" y="2260440"/>
            <a:chExt cx="1844640" cy="1845000"/>
          </a:xfrm>
        </p:grpSpPr>
        <p:pic>
          <p:nvPicPr>
            <p:cNvPr id="238" name="Group 8" descr=""/>
            <p:cNvPicPr/>
            <p:nvPr/>
          </p:nvPicPr>
          <p:blipFill>
            <a:blip r:embed="rId16"/>
            <a:stretch/>
          </p:blipFill>
          <p:spPr>
            <a:xfrm>
              <a:off x="3624120" y="2260440"/>
              <a:ext cx="1844640" cy="184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14" descr=""/>
            <p:cNvPicPr/>
            <p:nvPr/>
          </p:nvPicPr>
          <p:blipFill>
            <a:blip r:embed="rId17"/>
            <a:stretch/>
          </p:blipFill>
          <p:spPr>
            <a:xfrm>
              <a:off x="3774960" y="2745360"/>
              <a:ext cx="1540440" cy="119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Group 117"/>
          <p:cNvGrpSpPr/>
          <p:nvPr/>
        </p:nvGrpSpPr>
        <p:grpSpPr>
          <a:xfrm>
            <a:off x="5635800" y="2260440"/>
            <a:ext cx="1842840" cy="1845000"/>
            <a:chOff x="5635800" y="2260440"/>
            <a:chExt cx="1842840" cy="1845000"/>
          </a:xfrm>
        </p:grpSpPr>
        <p:pic>
          <p:nvPicPr>
            <p:cNvPr id="241" name="Group 15" descr=""/>
            <p:cNvPicPr/>
            <p:nvPr/>
          </p:nvPicPr>
          <p:blipFill>
            <a:blip r:embed="rId18"/>
            <a:stretch/>
          </p:blipFill>
          <p:spPr>
            <a:xfrm>
              <a:off x="5635800" y="2260440"/>
              <a:ext cx="1842840" cy="184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119" descr=""/>
            <p:cNvPicPr/>
            <p:nvPr/>
          </p:nvPicPr>
          <p:blipFill>
            <a:blip r:embed="rId19"/>
            <a:stretch/>
          </p:blipFill>
          <p:spPr>
            <a:xfrm>
              <a:off x="5905800" y="2794680"/>
              <a:ext cx="1304640" cy="112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Group 122"/>
          <p:cNvGrpSpPr/>
          <p:nvPr/>
        </p:nvGrpSpPr>
        <p:grpSpPr>
          <a:xfrm>
            <a:off x="1614600" y="4248000"/>
            <a:ext cx="1844640" cy="1845000"/>
            <a:chOff x="1614600" y="4248000"/>
            <a:chExt cx="1844640" cy="1845000"/>
          </a:xfrm>
        </p:grpSpPr>
        <p:pic>
          <p:nvPicPr>
            <p:cNvPr id="244" name="Group 21" descr=""/>
            <p:cNvPicPr/>
            <p:nvPr/>
          </p:nvPicPr>
          <p:blipFill>
            <a:blip r:embed="rId20"/>
            <a:stretch/>
          </p:blipFill>
          <p:spPr>
            <a:xfrm>
              <a:off x="1614600" y="4248000"/>
              <a:ext cx="1844640" cy="184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24" descr=""/>
            <p:cNvPicPr/>
            <p:nvPr/>
          </p:nvPicPr>
          <p:blipFill>
            <a:blip r:embed="rId21"/>
            <a:stretch/>
          </p:blipFill>
          <p:spPr>
            <a:xfrm>
              <a:off x="2243160" y="4772880"/>
              <a:ext cx="588960" cy="123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Group 127"/>
          <p:cNvGrpSpPr/>
          <p:nvPr/>
        </p:nvGrpSpPr>
        <p:grpSpPr>
          <a:xfrm>
            <a:off x="3624120" y="4248000"/>
            <a:ext cx="1844640" cy="1845000"/>
            <a:chOff x="3624120" y="4248000"/>
            <a:chExt cx="1844640" cy="1845000"/>
          </a:xfrm>
        </p:grpSpPr>
        <p:pic>
          <p:nvPicPr>
            <p:cNvPr id="247" name="Group 8" descr=""/>
            <p:cNvPicPr/>
            <p:nvPr/>
          </p:nvPicPr>
          <p:blipFill>
            <a:blip r:embed="rId22"/>
            <a:stretch/>
          </p:blipFill>
          <p:spPr>
            <a:xfrm>
              <a:off x="3624120" y="4248000"/>
              <a:ext cx="1844640" cy="184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129" descr=""/>
            <p:cNvPicPr/>
            <p:nvPr/>
          </p:nvPicPr>
          <p:blipFill>
            <a:blip r:embed="rId23"/>
            <a:srcRect l="9511" t="0" r="0" b="0"/>
            <a:stretch/>
          </p:blipFill>
          <p:spPr>
            <a:xfrm>
              <a:off x="3635640" y="4761000"/>
              <a:ext cx="1730520" cy="133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250" autoRev="1" fill="hold"/>
                                        <p:tgtEl>
                                          <p:spTgt spid="2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2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250" autoRev="1" fill="hold"/>
                                        <p:tgtEl>
                                          <p:spTgt spid="2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250" autoRev="1" fill="hold"/>
                                        <p:tgtEl>
                                          <p:spTgt spid="2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250" autoRev="1" fill="hold"/>
                                        <p:tgtEl>
                                          <p:spTgt spid="2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25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534960" y="666720"/>
            <a:ext cx="80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Choose a ‘</a:t>
            </a:r>
            <a:r>
              <a:rPr b="1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wa</a:t>
            </a:r>
            <a:r>
              <a:rPr b="0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’ or ‘</a:t>
            </a:r>
            <a:r>
              <a:rPr b="1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qua</a:t>
            </a:r>
            <a:r>
              <a:rPr b="0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’ word from the list to finish these sentences.</a:t>
            </a:r>
            <a:endParaRPr b="0" lang="en-US" sz="2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755640" y="1211400"/>
            <a:ext cx="7669080" cy="944280"/>
          </a:xfrm>
          <a:prstGeom prst="rect">
            <a:avLst/>
          </a:prstGeom>
          <a:solidFill>
            <a:srgbClr val="afd2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I sometimes </a:t>
            </a:r>
            <a:r>
              <a:rPr b="0" lang="en-GB" sz="1800" spc="-1" strike="noStrike" u="sng">
                <a:solidFill>
                  <a:srgbClr val="1c1c1c"/>
                </a:solidFill>
                <a:uFillTx/>
                <a:latin typeface="Twinkl"/>
              </a:rPr>
              <a:t>                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 with my sisters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1" name="Rectangle 17"/>
          <p:cNvSpPr/>
          <p:nvPr/>
        </p:nvSpPr>
        <p:spPr>
          <a:xfrm>
            <a:off x="755640" y="2320920"/>
            <a:ext cx="7669080" cy="944640"/>
          </a:xfrm>
          <a:prstGeom prst="rect">
            <a:avLst/>
          </a:prstGeom>
          <a:solidFill>
            <a:srgbClr val="d5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We are working on the </a:t>
            </a:r>
            <a:r>
              <a:rPr b="0" lang="en-GB" sz="1800" spc="-1" strike="noStrike" u="sng">
                <a:solidFill>
                  <a:srgbClr val="1c1c1c"/>
                </a:solidFill>
                <a:uFillTx/>
                <a:latin typeface="Twinkl"/>
              </a:rPr>
              <a:t>               </a:t>
            </a:r>
            <a:r>
              <a:rPr b="0" lang="en-GB" sz="1800" spc="-1" strike="noStrike" u="sng">
                <a:solidFill>
                  <a:srgbClr val="d5b8e5"/>
                </a:solidFill>
                <a:uFillTx/>
                <a:latin typeface="Twinkl"/>
              </a:rPr>
              <a:t>,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of our handwriting in year 2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2" name="Rectangle 19"/>
          <p:cNvSpPr/>
          <p:nvPr/>
        </p:nvSpPr>
        <p:spPr>
          <a:xfrm>
            <a:off x="755640" y="3430440"/>
            <a:ext cx="7669080" cy="944640"/>
          </a:xfrm>
          <a:prstGeom prst="rect">
            <a:avLst/>
          </a:prstGeom>
          <a:solidFill>
            <a:srgbClr val="afd2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“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I’m late!” cried the white rabbit as looked </a:t>
            </a:r>
            <a:br>
              <a:rPr sz="1800"/>
            </a:b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at his </a:t>
            </a:r>
            <a:r>
              <a:rPr b="0" lang="en-GB" sz="1800" spc="-1" strike="noStrike" u="sng">
                <a:solidFill>
                  <a:srgbClr val="1c1c1c"/>
                </a:solidFill>
                <a:uFillTx/>
                <a:latin typeface="Twinkl"/>
              </a:rPr>
              <a:t>             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3" name="Rectangle 20"/>
          <p:cNvSpPr/>
          <p:nvPr/>
        </p:nvSpPr>
        <p:spPr>
          <a:xfrm>
            <a:off x="755640" y="4538520"/>
            <a:ext cx="7669080" cy="946440"/>
          </a:xfrm>
          <a:prstGeom prst="rect">
            <a:avLst/>
          </a:prstGeom>
          <a:solidFill>
            <a:srgbClr val="d5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It is not a good idea to </a:t>
            </a:r>
            <a:r>
              <a:rPr b="0" lang="en-GB" sz="1800" spc="-1" strike="noStrike" u="sng">
                <a:solidFill>
                  <a:srgbClr val="1c1c1c"/>
                </a:solidFill>
                <a:uFillTx/>
                <a:latin typeface="Twinkl"/>
              </a:rPr>
              <a:t>                 </a:t>
            </a:r>
            <a:r>
              <a:rPr b="0" lang="en-GB" sz="1800" spc="-1" strike="noStrike">
                <a:solidFill>
                  <a:srgbClr val="d5b8e5"/>
                </a:solidFill>
                <a:latin typeface="Twinkl"/>
              </a:rPr>
              <a:t>,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off on your own in a busy shop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882000" y="572292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Twinkl"/>
              </a:rPr>
              <a:t>wander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5" name="Rectangle 22"/>
          <p:cNvSpPr/>
          <p:nvPr/>
        </p:nvSpPr>
        <p:spPr>
          <a:xfrm>
            <a:off x="3041280" y="5722920"/>
            <a:ext cx="9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Twinkl"/>
              </a:rPr>
              <a:t>quality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5046480" y="572292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Twinkl"/>
              </a:rPr>
              <a:t>squabble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7342920" y="572292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Twinkl"/>
              </a:rPr>
              <a:t>watch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0.47535 -0.15949 E">
                                      <p:cBhvr>
                                        <p:cTn id="156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58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59259E-006 L 0.24011 -0.48912 E">
                                      <p:cBhvr>
                                        <p:cTn id="161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163" nodeType="clickEffect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59259E-006 L -0.13958 -0.62801 E">
                                      <p:cBhvr>
                                        <p:cTn id="166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168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59259E-006 L -0.31789 -0.27986 E">
                                      <p:cBhvr>
                                        <p:cTn id="171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entagon 5"/>
          <p:cNvSpPr/>
          <p:nvPr/>
        </p:nvSpPr>
        <p:spPr>
          <a:xfrm>
            <a:off x="444600" y="770040"/>
            <a:ext cx="5032440" cy="453960"/>
          </a:xfrm>
          <a:custGeom>
            <a:avLst/>
            <a:gdLst>
              <a:gd name="textAreaLeft" fmla="*/ 0 w 5032440"/>
              <a:gd name="textAreaRight" fmla="*/ 5032800 w 503244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26" y="0"/>
                </a:lnTo>
                <a:lnTo>
                  <a:pt x="21600" y="10800"/>
                </a:lnTo>
                <a:lnTo>
                  <a:pt x="206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</a:rPr>
              <a:t>Here are this week’s spellings to practise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2766960" y="1455840"/>
            <a:ext cx="1974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want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watch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wander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quantity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squash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4375080" y="1455840"/>
            <a:ext cx="197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quality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squabble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squad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quad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quarrel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1" name="Freeform 10"/>
          <p:cNvSpPr/>
          <p:nvPr/>
        </p:nvSpPr>
        <p:spPr>
          <a:xfrm>
            <a:off x="3067200" y="3933720"/>
            <a:ext cx="3009600" cy="2238480"/>
          </a:xfrm>
          <a:prstGeom prst="pie">
            <a:avLst/>
          </a:prstGeom>
          <a:solidFill>
            <a:srgbClr val="ffffff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0" rIns="21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 SemiBold"/>
              </a:rPr>
              <a:t>Work hard to learn them and the rule we have looked at today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262" name="Picture 1" descr=""/>
          <p:cNvPicPr/>
          <p:nvPr/>
        </p:nvPicPr>
        <p:blipFill>
          <a:blip r:embed="rId1"/>
          <a:stretch/>
        </p:blipFill>
        <p:spPr>
          <a:xfrm>
            <a:off x="1042920" y="1461960"/>
            <a:ext cx="1952640" cy="49435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"/>
          <p:cNvPicPr/>
          <p:nvPr/>
        </p:nvPicPr>
        <p:blipFill>
          <a:blip r:embed="rId2"/>
          <a:stretch/>
        </p:blipFill>
        <p:spPr>
          <a:xfrm>
            <a:off x="6230880" y="1455840"/>
            <a:ext cx="18702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6:09:27Z</dcterms:created>
  <dc:creator>Twinkl</dc:creator>
  <dc:description/>
  <dc:language>en-US</dc:language>
  <cp:lastModifiedBy>Twinkl</cp:lastModifiedBy>
  <dcterms:modified xsi:type="dcterms:W3CDTF">2017-01-20T12:04:16Z</dcterms:modified>
  <cp:revision>167</cp:revision>
  <dc:subject/>
  <dc:title>Geography</dc:title>
</cp:coreProperties>
</file>